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7573-1917-4648-8345-C059932ABF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A6E9-EDFB-4817-8D4F-E356C327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9E1F-9CAD-4BB4-A582-A8D051A2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6AB9-4F8F-4A21-BD3B-02633FAF91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F523C-BA8B-4320-843A-2C84261DA4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4A68C-F1C7-4B71-98F8-C79F70ABFA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3DDD1-68AF-4C72-A666-77C7AE7BD3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C0E60-89AB-45B8-A77D-3CA6F0FE5A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F1739-4380-466E-A1D2-1A97B28C79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3B231-8920-4F84-8C48-932827523C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6BFB7-1FE4-46FF-AC2D-A32BBEF2EA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ACC73-3EA5-4174-88DE-AFDF7E95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93D28-04A5-45E4-9F25-CE1C4A8C6F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59880-2141-4268-9F7F-2868A4DBFC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D5473-8023-4052-A4C0-9B9C1623C9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9B1E8-2498-4715-9B25-A3A5743701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3B107-65C8-48B6-9111-0C348D817C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D495-B8AA-43CA-BA7D-08CFE35A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0D29-41AB-46BF-94FB-39FC0ABF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C075-6CEA-4212-BA41-EC751FF0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6E88-7780-4AFB-8D2D-2C7D1176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15E1-B76F-4A8B-8FEB-F11F4832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4A72-7AF2-4522-B185-279E1DFE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31E0-57F1-4B6D-B50C-5214AA77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49BE-CC48-441B-947A-B631BA11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E37A-7D6B-493B-BB89-11ED3F39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5FAC-ECB7-4B39-AAA6-27D2637B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94EB-D415-4A85-97F8-64634271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DD47-FA52-4B0F-ABF7-DA94D1F3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EA7A-699B-4C2E-B922-3E4997C9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37C50-BB6F-49D5-B2FD-D92B0D9D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657A4-47AB-4707-8BC7-27EE2E43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6E1A5-7084-4B64-BD9D-3FE9AE8C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6A2A-B680-4078-9BBE-03FB3F28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FC33CF-483A-4C87-A095-14B234AA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728D5-4FEC-4351-89F9-FD88A841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8D4F6-94E4-40F1-A821-C8A8DF68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3626B-33D5-4020-9944-B55F17AC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19656-7D84-49FB-AE8E-F5839D34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2B74C-A2FF-4B3C-BE0E-E49CD32A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F603E-655B-4537-B54B-6C9334B9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C215A9-B561-41E5-AF0D-0274DE47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2F6DA9-DFD1-44CF-8464-93884224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7E7B-A73A-4E47-9F50-72D652AE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13F6-4244-4986-BC12-35D9C4CC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7DD8-FBC3-481F-95B5-0CD98374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0F7A-8CF6-4DE3-B1FD-7BDF5567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428C-FCEF-40BD-98D4-1C132A48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FFCD59-A640-49C2-86AB-DE06F6D8DFC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D9D097-DFCB-4AD1-8707-29A099F95EE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911BDA-8689-45A0-B23A-9E2F05986A3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9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499AC8-FDDC-47DF-8933-70F74D671EE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400F-63FD-43FA-AF8E-5720908F6B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4741E-C5F1-4E5F-A8CE-1BCF27E1F5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42960" y="1141920"/>
            <a:ext cx="107953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تومبيل‌ خود را در محلي‌ امن‌ و كاملاً بافاصله‌ نسبت‌ به‌ محل‌ حادثه‌ پارك‌ كن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چراغ‌هاي‌ خطر آن‌ را به‌ حالت‌ چشمك‌زن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یک‌باره از خودرو پیاده و  وارد جاده نشوی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عرض خیابان ندو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شب‌، لباسي‌ بپوشيد يا چيزي‌ حمل‌ كنيد كه‌ روشن‌ يا منعكس‌كننده‌ نور باشد یا از چراغ‌قوه‌ استفاده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06D8-8A7D-4243-80ED-4475C46F5C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14400" y="1525680"/>
            <a:ext cx="1073664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حداقل‌ به‌ فاصله‌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۴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متر از محل‌ حادثه‌ در هر دو طرف‌ آن‌، مثلث‌ يا چراغ‌ هشداردهنده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لافاصله با مرکز فوریت پلیس و اورژان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تماس بگیر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تماس با اورژانس تعداد مصدومان را اعلام کن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سرعت‌ تمام‌ مصدومان‌ را ارزيابي‌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گر بيش‌ از يك‌ مصدوم‌ وجود دارد، ابتدا به‌ آن‌هایی‌ كه‌ ممكن‌ است‌ آسيب‌هاي‌ تهديدكننده‌ حيات‌ (مثل‌ سوختگي‌ يا زخم‌ شديد) داشته‌ باشند، رسيدگي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05880" y="2600280"/>
            <a:ext cx="3236400" cy="20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A6AD-C19F-42CF-9EFF-E01A205613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93200" y="1973880"/>
            <a:ext cx="10972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مصدوم‌ را حركت‌ ندهيد مگر وقتی‌که‌ قطعاً ضرورت‌ داشته‌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صورت‌ امكان‌، مصدومان‌ را در همان‌ وضعيتي‌ كه‌ با آن‌ها مواجه‌ شديد، درمان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تنها درصورتی‌که‌ مصدومي‌ درخطر باشد يا به‌منظور ارائه‌ درمان‌ نجات‌بخش‌، مي‌توانيد وي‌ را جابه‌جا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5495-7ADF-4AFA-B948-D6722B1EF2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32040" y="1696680"/>
            <a:ext cx="107010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در مورد هر مصدومي‌ كه‌ در حوادث‌ رانندگي‌ آسیب‌دیده‌ است‌، هميشه‌ فرض‌ كنيد كه‌ آسيب‌ گردن‌ (نخاع‌) وجود دارد و سر مصدوم‌ را تا رسيدن‌ نيروهاي‌ كمكي‌، با دست‌ نگه‌دار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محل‌ را به‌طور كامل‌ جستجو كنيد تا از مصدوماني‌ كه‌ به‌ مناطق‌ دورتر پرتاب‌شده‌اند يا از آن‌هایی‌ كه‌ به‌ خاطر منگي‌، بي‌هدف‌ حركت‌ كرده‌ و از محل‌ دور شده‌اند، غفلت‌ نكرده‌ باش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A838-05E4-4325-B147-5A3664C6FB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ftr" idx="12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rPr>
              <a:t>کارگاه آمادگی در برابر زلزله ( فرد – خانواده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SG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D8A1E-B14B-4583-92E5-6EF18247FD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10" name="Content Placeholder 7" descr=""/>
          <p:cNvPicPr/>
          <p:nvPr/>
        </p:nvPicPr>
        <p:blipFill>
          <a:blip r:embed="rId2"/>
          <a:stretch/>
        </p:blipFill>
        <p:spPr>
          <a:xfrm>
            <a:off x="2978640" y="1772280"/>
            <a:ext cx="647352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35EEB-4DC0-45E3-90C2-B3201097C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56</TotalTime>
  <Application>LibreOffice/7.4.7.2$Linux_X86_64 LibreOffice_project/40$Build-2</Application>
  <AppVersion>15.0000</AppVersion>
  <Words>46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16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