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F8C5-75F0-41EB-B462-DD0D49CD5B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0B75-BC9C-4650-BECF-09A600A2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AC8AD-35A8-4C97-944B-5C7926CB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CCAC-254E-4371-A775-22CD29288D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2EF1B-3B7A-4CBE-88D9-C362A8E0AA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732C7-698E-4943-A664-8A9ECA9232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6416C-D874-43FE-AE5A-DF0B90E62B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0E9F5-E590-426A-A867-A37D4430AF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C5A0B-3E70-4D93-9131-05D1B71495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45E07-37E4-456F-8B9C-0DC818A6EC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36EB1-F181-4F55-B1B7-B5F84DD113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42B5-A33E-4511-B6FF-06DAD35B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1387D-2D52-48AF-B6F5-2F6A95D2A5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2A286-B2CA-4E97-AE0B-19B0732B273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5F8D6-2842-4967-98C5-D96F7979DD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22721-17D0-4CF8-A282-B6C34B2A75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FFB90-A45A-4BE9-A8F7-0F96899AF0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AAC9-024D-4CEA-88CD-4F3ED091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7AD5-6AE7-4455-B16F-0E6328CE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1E69-D95A-48EB-A849-B327C1F9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B299-9ABB-4B87-96FD-3A46BA4A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0602-CA9B-481A-8BF5-F79C5803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2CF2-1FD4-4512-BCF7-259B04FA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E612-103E-4F97-A068-61C9C3B3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1B75-4337-4ABA-AAB0-F5F4045E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01A5-B348-43BA-B84A-4A74C012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D760-1FE3-4707-8486-DAEA7E77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C958-42E5-431F-8C91-3C309115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8789-B319-4E3C-B0B0-3A6C57FEB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511F-85DF-4322-B52E-3727FB61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0403-0194-4F45-B095-6A84CC3B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9DBB9-8692-4F15-8F06-307E7A73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0B21-A662-4245-90C8-2AB76D9F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FB96C-674F-43B3-8F4A-6E4F55DF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76AF-E298-4A1A-A6D9-B2519390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95CEF-7075-44F1-BF12-4B7973B1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1BDB2-30FE-4735-B0FD-6F72781B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1E24D-196F-4B71-94F8-22AA1D8C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0CC4-62E7-4570-AEA8-2BFE83D8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B64A7-7E1E-48C4-9B90-EC93FFF7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46950-64E8-4694-AB6E-F98E5D8B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5AEB4-D350-4372-B18D-FC50453B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1E67-FD55-4508-9B3C-83EEE220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4F79B-16BC-4246-B8E9-9532E486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6119A-551A-4CC6-958A-4A61AC22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E460-99ED-48EA-B045-42CC985A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2F0C-1A8F-4AA6-A80B-80DB9C35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CD9A-1951-4C0D-9451-05BCA6E0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4BC860-DE5E-4289-8E3E-C442E928B57A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FD0B89-CB44-4719-9BCA-540095B88DD1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385C62-2C5D-468A-ADAE-EA9BA5769630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3"/>
          <a:stretch/>
        </p:blipFill>
        <p:spPr>
          <a:xfrm>
            <a:off x="10929960" y="0"/>
            <a:ext cx="1261800" cy="12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4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5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642F79-33AB-4CA0-A634-CFA40D8FE32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نحوه امدادخواهی در بلایا و حواد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83C95-1E51-40DC-AC23-52339D729F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22" name="Content Placeholder 10" descr=""/>
          <p:cNvPicPr/>
          <p:nvPr/>
        </p:nvPicPr>
        <p:blipFill>
          <a:blip r:embed="rId2"/>
          <a:stretch/>
        </p:blipFill>
        <p:spPr>
          <a:xfrm>
            <a:off x="3089880" y="1554120"/>
            <a:ext cx="645156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9258D-863B-434B-B1ED-EE0326CAF2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B47D0-E526-41F5-8665-83CE652168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شماره تلفن های ضرور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9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SG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2"/>
          <a:srcRect l="0" t="20962" r="0" b="8516"/>
          <a:stretch/>
        </p:blipFill>
        <p:spPr>
          <a:xfrm>
            <a:off x="1809720" y="2589840"/>
            <a:ext cx="8572320" cy="202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77C1A-B08B-4C97-9226-F6F2FEF54F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3680" y="1553400"/>
            <a:ext cx="667800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یماری ها و حوادث اورژانسی به مواردی گفته می شوند که در صورت عدم ارائه به موقع اقدامات امدادی – درمانی، منجر به صدمات عضوی و جانی و نیز مشکلات روانی بیمار می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قط در موارد فوری و اورژانس می توانید با این شماره تلفن تماس بگیر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وجود خطر و صدمات عضوی و جانی و یا در خطر بودن سلامت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53360" y="1958400"/>
            <a:ext cx="4403520" cy="3447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10920960" y="4284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A68EF-4599-45F0-8556-E47DDEE0EA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61000"/>
          </a:bodyPr>
          <a:p>
            <a:pPr marL="7848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قل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درد و سنگینی یا فشار قفسه سینه همراه با تهوع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ستفراغ، عرق س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نگی نفس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حساس سوزش در ناحیه پشت جناغ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بیماریکه سابقه بیماری قلبی دارد در صورت داشتن هریک از علائم فوق با اورژانس 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ماس بگی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98000"/>
          </a:bodyPr>
          <a:p>
            <a:pPr marL="12600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ت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تنگی 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خس خس سینه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کبودی لبها و بستر ناخنها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27440" indent="-127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C1CD-6474-4429-BE04-40536CD55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823640" y="1271880"/>
            <a:ext cx="60955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تصادف با وسیله نقلی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قوط از بلن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وخت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مسمومیت های دارویی و خودکش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غرق شد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گزید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ضرب و جرح(ضربه به جمجمه و ستون فقرات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برق گرفت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ریزش آو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1C362-E436-4720-A4F3-408292D8FE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35800" y="1553400"/>
            <a:ext cx="1131552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رایند امداد خواهی و امداد رسانی از تماس با شماره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شروع شده و در مرحله تحویل بیمار به اولین مرکز درمانی پایان می پذی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4300200" y="3287160"/>
            <a:ext cx="4030200" cy="287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5D660-D7BD-46C2-BECE-F13D988F49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2249640" y="1565280"/>
            <a:ext cx="7289280" cy="47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1FAFC-66ED-4B0B-9D85-762EDF0D0E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3200" spc="-52" strike="noStrike">
                <a:solidFill>
                  <a:srgbClr val="b40000"/>
                </a:solidFill>
                <a:latin typeface="Calibri Light"/>
                <a:cs typeface="B Titr"/>
              </a:rPr>
              <a:t>در هنگام تماس با اورژانس 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 به چه مسائلی را باید رعایت کنیم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760" y="1553400"/>
            <a:ext cx="116510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حفظ خونسر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پاسخگویی به سوالات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در مورد سن، جنس و تعداد مصدومین ، سابقه ی بیماری، نحو ه ی بروز حادث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نشانی کامل و در صورت امکان نام یا شماره کوچه و خیابان 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اگر در مورد موقعیت مکانی خود مطمئن نیستید ، هراس به خود راه ندهید ،سعی کنید از افراد محلی واطرافیان موقیعت جغرافیایی محل را جویا شوید.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اطلاعات در خصوص خطرات موجود در محل حادثه مثل وجود مواد سمی ، آسیب سیمهای برق یا وضعیت آب و هوا (مه یا جاده یخ زد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بکار بستن توصیه های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تا رسیدن اکیپ امدا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شماره تلفن خودتان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D371A-0496-4210-B242-1D12B2AC0F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27</TotalTime>
  <Application>LibreOffice/7.4.7.2$Linux_X86_64 LibreOffice_project/40$Build-2</Application>
  <AppVersion>15.0000</AppVersion>
  <Words>381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1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0</vt:r8>
  </property>
</Properties>
</file>