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D572415-1543-480D-A6A5-19309A8A8E0D}" type="doc">
      <dgm:prSet loTypeId="urn:microsoft.com/office/officeart/2005/8/layout/funnel1" loCatId="process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en-SG"/>
        </a:p>
      </dgm:t>
    </dgm:pt>
    <dgm:pt modelId="{EEB7130B-CF67-43BD-9BA5-BC0810802DD3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اص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F3BA826-7A0A-448F-9100-4405E4B4DBCE}" type="par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F90F371E-53FE-4FD8-9F0A-4232E191DE95}" type="sib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249E04F8-C3B8-4E2D-9C49-A64FBE70EDED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تکمی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2E8FE2-BB01-4AAA-AF9A-1A3602D02704}" type="par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16BD8BB-7752-4672-8B8D-62DC0595A7DA}" type="sib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AA16E9-D2FE-4752-9BAB-366051CC16FD}">
      <dgm:prSet phldrT="[Text]" custT="1"/>
      <dgm:spPr/>
      <dgm:t>
        <a:bodyPr/>
        <a:lstStyle/>
        <a:p>
          <a:pPr marL="0" marR="0" lvl="0" indent="0" algn="ctr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fa-IR" sz="2800" b="1" smtClean="0">
              <a:solidFill>
                <a:schemeClr val="tx1"/>
              </a:solidFill>
              <a:cs typeface="B Nazanin" panose="00000400000000000000" pitchFamily="2" charset="-78"/>
            </a:rPr>
            <a:t>محتویات کیف</a:t>
          </a:r>
        </a:p>
        <a:p>
          <a:pPr lvl="0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01414706-E5F1-43FE-9F31-3E23016D458A}" type="sib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1B6D747-FCD4-44FB-A4BB-BD6045973B12}" type="par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5C3729F-71C6-4F62-A637-8A5DAEA5D86D}" type="pres">
      <dgm:prSet presAssocID="{1D572415-1543-480D-A6A5-19309A8A8E0D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1E2A69D0-05A0-4D3E-BBE5-C72CBFDE966E}" type="pres">
      <dgm:prSet presAssocID="{1D572415-1543-480D-A6A5-19309A8A8E0D}" presName="ellipse" presStyleLbl="trBgShp" presStyleIdx="0" presStyleCnt="1"/>
      <dgm:spPr/>
    </dgm:pt>
    <dgm:pt modelId="{AEBC9CB9-2A08-43B8-8BA5-E70143690A38}" type="pres">
      <dgm:prSet presAssocID="{1D572415-1543-480D-A6A5-19309A8A8E0D}" presName="arrow1" presStyleLbl="fgShp" presStyleIdx="0" presStyleCnt="1"/>
      <dgm:spPr/>
    </dgm:pt>
    <dgm:pt modelId="{034C8D08-D90F-4D1A-8A95-407915CEFCBF}" type="pres">
      <dgm:prSet presAssocID="{1D572415-1543-480D-A6A5-19309A8A8E0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137A061-FA6F-4E60-BE8F-411187B36BD3}" type="pres">
      <dgm:prSet presAssocID="{249E04F8-C3B8-4E2D-9C49-A64FBE70EDED}" presName="item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7FF2573-11A8-4935-80BB-AD4FF4B0BB89}" type="pres">
      <dgm:prSet presAssocID="{B4AA16E9-D2FE-4752-9BAB-366051CC16FD}" presName="item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5C609B2-7576-4D50-8FCD-8F6F93E8E4B6}" type="pres">
      <dgm:prSet presAssocID="{1D572415-1543-480D-A6A5-19309A8A8E0D}" presName="funnel" presStyleLbl="trAlignAcc1" presStyleIdx="0" presStyleCnt="1"/>
      <dgm:spPr/>
    </dgm:pt>
  </dgm:ptLst>
  <dgm:cxnLst>
    <dgm:cxn modelId="{F0C7B147-98D7-42C5-BE27-F9416B717F41}" srcId="{1D572415-1543-480D-A6A5-19309A8A8E0D}" destId="{B4AA16E9-D2FE-4752-9BAB-366051CC16FD}" srcOrd="2" destOrd="0" parTransId="{81B6D747-FCD4-44FB-A4BB-BD6045973B12}" sibTransId="{01414706-E5F1-43FE-9F31-3E23016D458A}"/>
    <dgm:cxn modelId="{D0223927-3F97-4A25-8794-0C7E236C1398}" srcId="{1D572415-1543-480D-A6A5-19309A8A8E0D}" destId="{249E04F8-C3B8-4E2D-9C49-A64FBE70EDED}" srcOrd="1" destOrd="0" parTransId="{B42E8FE2-BB01-4AAA-AF9A-1A3602D02704}" sibTransId="{416BD8BB-7752-4672-8B8D-62DC0595A7DA}"/>
    <dgm:cxn modelId="{9DCB18EC-821A-4558-ADDA-03593FBBD574}" type="presOf" srcId="{1D572415-1543-480D-A6A5-19309A8A8E0D}" destId="{45C3729F-71C6-4F62-A637-8A5DAEA5D86D}" srcOrd="0" destOrd="0" presId="urn:microsoft.com/office/officeart/2005/8/layout/funnel1"/>
    <dgm:cxn modelId="{6EC79895-CF7E-40B7-BA0C-6D0385DCF650}" type="presOf" srcId="{B4AA16E9-D2FE-4752-9BAB-366051CC16FD}" destId="{034C8D08-D90F-4D1A-8A95-407915CEFCBF}" srcOrd="0" destOrd="0" presId="urn:microsoft.com/office/officeart/2005/8/layout/funnel1"/>
    <dgm:cxn modelId="{23AC0726-02A7-4BA8-9371-E403BB666839}" type="presOf" srcId="{EEB7130B-CF67-43BD-9BA5-BC0810802DD3}" destId="{07FF2573-11A8-4935-80BB-AD4FF4B0BB89}" srcOrd="0" destOrd="0" presId="urn:microsoft.com/office/officeart/2005/8/layout/funnel1"/>
    <dgm:cxn modelId="{BF98ADFB-39CD-4423-83C8-9B7884CF12A3}" srcId="{1D572415-1543-480D-A6A5-19309A8A8E0D}" destId="{EEB7130B-CF67-43BD-9BA5-BC0810802DD3}" srcOrd="0" destOrd="0" parTransId="{8F3BA826-7A0A-448F-9100-4405E4B4DBCE}" sibTransId="{F90F371E-53FE-4FD8-9F0A-4232E191DE95}"/>
    <dgm:cxn modelId="{1A620D64-5B3C-4D85-A24A-C5972BF2964F}" type="presOf" srcId="{249E04F8-C3B8-4E2D-9C49-A64FBE70EDED}" destId="{9137A061-FA6F-4E60-BE8F-411187B36BD3}" srcOrd="0" destOrd="0" presId="urn:microsoft.com/office/officeart/2005/8/layout/funnel1"/>
    <dgm:cxn modelId="{DD3C1308-7B4D-419B-927F-BA84364C83DB}" type="presParOf" srcId="{45C3729F-71C6-4F62-A637-8A5DAEA5D86D}" destId="{1E2A69D0-05A0-4D3E-BBE5-C72CBFDE966E}" srcOrd="0" destOrd="0" presId="urn:microsoft.com/office/officeart/2005/8/layout/funnel1"/>
    <dgm:cxn modelId="{ABB1F97B-E0E5-41DC-9214-0C55FB87BCD8}" type="presParOf" srcId="{45C3729F-71C6-4F62-A637-8A5DAEA5D86D}" destId="{AEBC9CB9-2A08-43B8-8BA5-E70143690A38}" srcOrd="1" destOrd="0" presId="urn:microsoft.com/office/officeart/2005/8/layout/funnel1"/>
    <dgm:cxn modelId="{2C537C87-B641-4389-B4F9-CC79C6D9CFD7}" type="presParOf" srcId="{45C3729F-71C6-4F62-A637-8A5DAEA5D86D}" destId="{034C8D08-D90F-4D1A-8A95-407915CEFCBF}" srcOrd="2" destOrd="0" presId="urn:microsoft.com/office/officeart/2005/8/layout/funnel1"/>
    <dgm:cxn modelId="{426ED9CF-4C0D-4CEB-A016-0FA0AF17BD1C}" type="presParOf" srcId="{45C3729F-71C6-4F62-A637-8A5DAEA5D86D}" destId="{9137A061-FA6F-4E60-BE8F-411187B36BD3}" srcOrd="3" destOrd="0" presId="urn:microsoft.com/office/officeart/2005/8/layout/funnel1"/>
    <dgm:cxn modelId="{613C91DF-5A86-4124-BF69-823911CC1923}" type="presParOf" srcId="{45C3729F-71C6-4F62-A637-8A5DAEA5D86D}" destId="{07FF2573-11A8-4935-80BB-AD4FF4B0BB89}" srcOrd="4" destOrd="0" presId="urn:microsoft.com/office/officeart/2005/8/layout/funnel1"/>
    <dgm:cxn modelId="{D823CE8B-D787-4EA9-8544-78FCD5989358}" type="presParOf" srcId="{45C3729F-71C6-4F62-A637-8A5DAEA5D86D}" destId="{85C609B2-7576-4D50-8FCD-8F6F93E8E4B6}" srcOrd="5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C360-17B6-4193-BC37-8962A752E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FF01-F3EA-4370-B92A-6BF04DC4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17EE-5E2A-45AC-8A01-E55322F9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A2AE-50A3-4C8B-BC5F-E1F518A54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A827C-E986-4491-B666-606D34DCB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9A192-964C-4AE9-A56A-F6AE4817FF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F97D4-E0A7-488F-93F8-E65BDBF8F4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A3984-1D3D-43FA-8B00-6FBCFA666C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F2FAF-31A9-4701-9CFA-B6B854FA2A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F849E-EA76-4CC2-B59D-FB7913066E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488E8-F367-433D-ABCE-CF6E3F47ED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DADB-F874-4B31-A921-48D4268B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4B9FE-476A-46B8-A4A9-F74381CC7C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F168D-C3B2-4C5D-8A32-4F9184BE31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CD9B6-3169-43CF-B1C5-2E51F4ED75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78702-AC95-4438-8FC9-C1A12C869A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FEA3F-066C-46F0-9C6B-E826FA491B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62ACD-558B-4399-9F10-4966E4978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F4023-9C8A-49B7-9C4B-8FC48E45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32212-BD7C-47FE-B245-E0FBCE08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B1D357-D2A4-44F1-9A75-7E40CACF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515657-C57C-444A-81FD-9C3447EA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01E1-968C-4AE2-8002-A4FF948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257D8-4504-4025-A58C-2AB0860F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415771-6348-4E01-9289-2A0BE9E9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477FC-AA57-4A4E-BF8E-90BCBA9D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543B0-74A8-42C5-A108-6C318A92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4ED49D-C0E1-4E7D-8E06-9848FD1A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2869E1-4C5E-4A64-8CF3-6FC0B626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466EF-2F75-4150-A313-E0683E163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54D6-F7D2-43BE-8F8A-D5C1CE0D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185D-B58C-454A-BF5B-2B06D3EC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51CD-2D75-437E-9BC8-D0C6AF04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7874-7ADD-462B-BFBD-6E51A2E0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2CAA-73DF-42AF-AE1E-ECC9B829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D4EB5-1103-45D7-B0C0-C955AF25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855E60-C580-4462-8C49-9C2985B7A7F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Footer Placeholder 4"/>
          <p:cNvSpPr/>
          <p:nvPr/>
        </p:nvSpPr>
        <p:spPr>
          <a:xfrm>
            <a:off x="3844440" y="6629400"/>
            <a:ext cx="4822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2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7F637B-A437-460E-A37E-BF39FCBCE50F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7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62A6CE-4909-4C6E-B5DD-211A4CC07BF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کیف نجات خانواد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8F10-4B36-4BF9-8243-B91E3C2E82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شرایط نگهداری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جای خشک و خنک: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1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ا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درج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زدیک مسیر خروج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خودرو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در پوشش ضد آب باش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ک کردن کیف در زمانهای منظم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Image result for Emergency family kit in car"/>
          <p:cNvPicPr/>
          <p:nvPr/>
        </p:nvPicPr>
        <p:blipFill>
          <a:blip r:embed="rId1"/>
          <a:stretch/>
        </p:blipFill>
        <p:spPr>
          <a:xfrm>
            <a:off x="335520" y="2205000"/>
            <a:ext cx="4874040" cy="32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86268-4393-4220-BE98-697EB1C814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2303640" y="1766520"/>
            <a:ext cx="7670520" cy="43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EB6AC-8D9B-4221-A6E4-5964FB9D69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9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AAFD5-DA48-484D-AD96-F9615DEF17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نحوه تهیه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هیه چک لیستی از وسایل مورد نیاز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ماده کردن وسایل مطابق با لیست تهیه شد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سته بندی همه وسایل و جاگذاری در کیف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قابل شستشو و قابل حمل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-265" t="0" r="0" b="0"/>
          <a:stretch/>
        </p:blipFill>
        <p:spPr>
          <a:xfrm>
            <a:off x="638280" y="1805040"/>
            <a:ext cx="4196160" cy="418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1F40F-2FE1-4377-9503-59B3E8547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77892594"/>
              </p:ext>
            </p:extLst>
          </p:nvPr>
        </p:nvGraphicFramePr>
        <p:xfrm>
          <a:off x="1557360" y="223920"/>
          <a:ext cx="8966520" cy="656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F4FF8D-CA20-43D3-991B-DE5610FD0C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3360" y="1196640"/>
            <a:ext cx="718488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ب برای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به ازای هر فرد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لیتر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غذا غیر فاسدشدنی  برای حداقل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: کنسرو، نان خشک و  بیسکویت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عبه کمکهای اولی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ادیو و باتر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686880" y="4094280"/>
            <a:ext cx="3198600" cy="22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686880" y="1535040"/>
            <a:ext cx="3198600" cy="24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F59FD-1780-4BF8-8FD3-392D421A24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380600"/>
            <a:ext cx="11088720" cy="509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8360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راغ قو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وت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لفن همراه با شارژر و باتری پشتیبان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سک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در مسافرتی یا مشمع و نوار چس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ب بازکن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قشه های محل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886680" y="1671120"/>
            <a:ext cx="3264120" cy="451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8F73F-11B9-43EC-B615-F457250501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 شخصی:صابون، ضد عفونی کننده دست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ی مورد نیاز بانوان، کودکان و سالمندان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داروهای بدون نسخه: مسکن، ضد تهوع و اسهال، داروهای ضداسید معده، پمادهای موضعی و ...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کیسه خواب یا پتو گرم برای هر شخص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25880" y="1759680"/>
            <a:ext cx="2854080" cy="22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E9793-20DE-4E1C-8D9A-650D2905E9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لباس متناسب با آب و هوا و کفشهای محکم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مهم: کپی بیمه نامه ها ، شناسنامه و سوابق حساب بانکی و ... 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پسول آتش نشانی کوچک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باب بازی و سرگرمی برای گودکان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تاب های مورد علاقه : ادعیه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079280" y="3815280"/>
            <a:ext cx="2878560" cy="22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762F6-38D5-44B4-B095-D05D9CF45C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ubtitle 1"/>
          <p:cNvSpPr/>
          <p:nvPr/>
        </p:nvSpPr>
        <p:spPr>
          <a:xfrm>
            <a:off x="2882880" y="1533960"/>
            <a:ext cx="907056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77" strike="noStrike">
                <a:solidFill>
                  <a:srgbClr val="000000"/>
                </a:solidFill>
                <a:latin typeface="Calibri"/>
                <a:cs typeface="B Nazanin"/>
              </a:rPr>
              <a:t>تجهیزات کنترل قند خو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سول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وم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وار تست ق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اگ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یخ خش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نبه الک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43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mage result for ‫ویال گلوکاگون‬‎"/>
          <p:cNvPicPr/>
          <p:nvPr/>
        </p:nvPicPr>
        <p:blipFill>
          <a:blip r:embed="rId1"/>
          <a:stretch/>
        </p:blipFill>
        <p:spPr>
          <a:xfrm>
            <a:off x="893520" y="4435560"/>
            <a:ext cx="3860280" cy="198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 result for ‫دستگاه گلوکومتر‬‎"/>
          <p:cNvPicPr/>
          <p:nvPr/>
        </p:nvPicPr>
        <p:blipFill>
          <a:blip r:embed="rId2"/>
          <a:stretch/>
        </p:blipFill>
        <p:spPr>
          <a:xfrm>
            <a:off x="1079280" y="1886760"/>
            <a:ext cx="2995920" cy="196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3E91C-3734-4433-8F90-86B0111D04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580</TotalTime>
  <Application>LibreOffice/7.4.7.2$Linux_X86_64 LibreOffice_project/40$Build-2</Application>
  <AppVersion>15.0000</AppVersion>
  <Words>26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01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1</vt:r8>
  </property>
</Properties>
</file>