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diagrams/data1.xml" ContentType="application/vnd.openxmlformats-officedocument.drawingml.diagramData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12192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B53500A0-654A-4A43-B7A6-847F548D1C06}" type="doc">
      <dgm:prSet loTypeId="urn:microsoft.com/office/officeart/2005/8/layout/chevron2" loCatId="list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en-SG"/>
        </a:p>
      </dgm:t>
    </dgm:pt>
    <dgm:pt modelId="{54C31A48-4999-46D6-8F4E-82621459D554}">
      <dgm:prSet phldrT="[Text]"/>
      <dgm:spPr/>
      <dgm:t>
        <a:bodyPr/>
        <a:lstStyle/>
        <a:p>
          <a:pPr rtl="1"/>
          <a:r>
            <a:rPr lang="fa-IR" smtClean="0">
              <a:cs typeface="B Nazanin" panose="00000400000000000000" pitchFamily="2" charset="-78"/>
            </a:rPr>
            <a:t>گروه </a:t>
          </a:r>
          <a:r>
            <a:rPr lang="en-SG" smtClean="0">
              <a:cs typeface="B Nazanin" panose="00000400000000000000" pitchFamily="2" charset="-78"/>
            </a:rPr>
            <a:t>A</a:t>
          </a:r>
          <a:endParaRPr lang="en-SG" dirty="0">
            <a:cs typeface="B Nazanin" panose="00000400000000000000" pitchFamily="2" charset="-78"/>
          </a:endParaRPr>
        </a:p>
      </dgm:t>
    </dgm:pt>
    <dgm:pt modelId="{F620177C-0B66-4CBB-A621-5363D9629BE3}" type="parTrans" cxnId="{23BAA434-5FE2-44C0-8AB8-3DBC0608BAC8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54D790F1-99FE-4009-9493-A06966C3A36C}" type="sibTrans" cxnId="{23BAA434-5FE2-44C0-8AB8-3DBC0608BAC8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C4843F62-836F-4783-88BD-36404297F51E}">
      <dgm:prSet phldrT="[Text]"/>
      <dgm:spPr/>
      <dgm:t>
        <a:bodyPr/>
        <a:lstStyle/>
        <a:p>
          <a:pPr rtl="1"/>
          <a:r>
            <a:rPr lang="fa-IR" dirty="0" smtClean="0">
              <a:cs typeface="B Nazanin" panose="00000400000000000000" pitchFamily="2" charset="-78"/>
            </a:rPr>
            <a:t>چوب، پلاستیک، نایلون</a:t>
          </a:r>
          <a:endParaRPr lang="en-SG" dirty="0">
            <a:cs typeface="B Nazanin" panose="00000400000000000000" pitchFamily="2" charset="-78"/>
          </a:endParaRPr>
        </a:p>
      </dgm:t>
    </dgm:pt>
    <dgm:pt modelId="{53BAAA5F-D853-449B-A166-CCFFC00DB43A}" type="parTrans" cxnId="{672FB341-CCA8-4C03-99D5-897535F35648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D3EAB1B8-BED0-4E27-A547-10BF403D0400}" type="sibTrans" cxnId="{672FB341-CCA8-4C03-99D5-897535F35648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F0F81A63-7ED7-41DC-9892-A0E483D39A49}">
      <dgm:prSet phldrT="[Text]"/>
      <dgm:spPr/>
      <dgm:t>
        <a:bodyPr/>
        <a:lstStyle/>
        <a:p>
          <a:pPr rtl="1"/>
          <a:r>
            <a:rPr lang="fa-IR" dirty="0" smtClean="0">
              <a:cs typeface="B Nazanin" panose="00000400000000000000" pitchFamily="2" charset="-78"/>
            </a:rPr>
            <a:t>گروه </a:t>
          </a:r>
          <a:r>
            <a:rPr lang="en-SG" dirty="0" smtClean="0">
              <a:cs typeface="B Nazanin" panose="00000400000000000000" pitchFamily="2" charset="-78"/>
            </a:rPr>
            <a:t>B</a:t>
          </a:r>
          <a:endParaRPr lang="en-SG" dirty="0">
            <a:cs typeface="B Nazanin" panose="00000400000000000000" pitchFamily="2" charset="-78"/>
          </a:endParaRPr>
        </a:p>
      </dgm:t>
    </dgm:pt>
    <dgm:pt modelId="{8259298E-E5CC-42B4-B22D-F966278E69BB}" type="parTrans" cxnId="{0030FA97-1B4F-4CDD-8622-209D7C377CEB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0F24E2E8-0F40-4B4F-AE04-AA160E43D1A5}" type="sibTrans" cxnId="{0030FA97-1B4F-4CDD-8622-209D7C377CEB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76AECB33-C3FD-4FD0-A011-D23B3913B580}">
      <dgm:prSet phldrT="[Text]"/>
      <dgm:spPr/>
      <dgm:t>
        <a:bodyPr/>
        <a:lstStyle/>
        <a:p>
          <a:pPr rtl="1"/>
          <a:r>
            <a:rPr lang="fa-IR" dirty="0" smtClean="0">
              <a:cs typeface="B Nazanin" panose="00000400000000000000" pitchFamily="2" charset="-78"/>
            </a:rPr>
            <a:t>بنزین،گازوییل،الکل،گازهای قابل اشتعال</a:t>
          </a:r>
          <a:endParaRPr lang="en-SG" dirty="0">
            <a:cs typeface="B Nazanin" panose="00000400000000000000" pitchFamily="2" charset="-78"/>
          </a:endParaRPr>
        </a:p>
      </dgm:t>
    </dgm:pt>
    <dgm:pt modelId="{027C7094-4034-4947-91EC-BAE9EABC0081}" type="parTrans" cxnId="{2F07CF6B-251B-4962-91B9-5A89578DD480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DCC0DE10-079B-46A8-951F-5C6FF899E23B}" type="sibTrans" cxnId="{2F07CF6B-251B-4962-91B9-5A89578DD480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E87895A8-4BD3-47C7-84B4-8CD7F18E4374}">
      <dgm:prSet phldrT="[Text]"/>
      <dgm:spPr/>
      <dgm:t>
        <a:bodyPr/>
        <a:lstStyle/>
        <a:p>
          <a:pPr rtl="1"/>
          <a:r>
            <a:rPr lang="fa-IR" dirty="0" smtClean="0">
              <a:cs typeface="B Nazanin" panose="00000400000000000000" pitchFamily="2" charset="-78"/>
            </a:rPr>
            <a:t>گروه </a:t>
          </a:r>
          <a:r>
            <a:rPr lang="en-SG" dirty="0" smtClean="0">
              <a:cs typeface="B Nazanin" panose="00000400000000000000" pitchFamily="2" charset="-78"/>
            </a:rPr>
            <a:t>C</a:t>
          </a:r>
          <a:endParaRPr lang="en-SG" dirty="0">
            <a:cs typeface="B Nazanin" panose="00000400000000000000" pitchFamily="2" charset="-78"/>
          </a:endParaRPr>
        </a:p>
      </dgm:t>
    </dgm:pt>
    <dgm:pt modelId="{3CD4A2B8-907B-4AFA-9D19-B4CD470FCF51}" type="parTrans" cxnId="{34121961-7271-4D63-8917-2351824B4007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8FDBB641-6392-4CA4-B9E1-88FE67F78F04}" type="sibTrans" cxnId="{34121961-7271-4D63-8917-2351824B4007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6B3E51C4-651E-4815-B39D-E945C0358781}">
      <dgm:prSet phldrT="[Text]"/>
      <dgm:spPr/>
      <dgm:t>
        <a:bodyPr/>
        <a:lstStyle/>
        <a:p>
          <a:pPr rtl="1"/>
          <a:r>
            <a:rPr lang="fa-IR" dirty="0" smtClean="0">
              <a:cs typeface="B Nazanin" panose="00000400000000000000" pitchFamily="2" charset="-78"/>
            </a:rPr>
            <a:t>تجهیزات الکتریکی مانند تابلو برق ها یا کامپیوتر ها ، موتورها یا هر تجهیز قابل اشتعالی که با برق کار می کند</a:t>
          </a:r>
          <a:endParaRPr lang="en-SG" dirty="0">
            <a:cs typeface="B Nazanin" panose="00000400000000000000" pitchFamily="2" charset="-78"/>
          </a:endParaRPr>
        </a:p>
      </dgm:t>
    </dgm:pt>
    <dgm:pt modelId="{13E44969-E01D-440F-87BB-67399DE9D5CE}" type="parTrans" cxnId="{5F468F98-83E2-460E-92AE-72B6334EA2AD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9E183BF8-8BDF-46DA-A223-1AED3A16DDA4}" type="sibTrans" cxnId="{5F468F98-83E2-460E-92AE-72B6334EA2AD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C3450207-6E01-4CCE-B9F0-7C3D2DA50977}">
      <dgm:prSet/>
      <dgm:spPr/>
      <dgm:t>
        <a:bodyPr/>
        <a:lstStyle/>
        <a:p>
          <a:pPr rtl="1"/>
          <a:r>
            <a:rPr lang="fa-IR" dirty="0" smtClean="0">
              <a:cs typeface="B Nazanin" panose="00000400000000000000" pitchFamily="2" charset="-78"/>
            </a:rPr>
            <a:t>گروه </a:t>
          </a:r>
          <a:r>
            <a:rPr lang="en-SG" dirty="0" smtClean="0">
              <a:cs typeface="B Nazanin" panose="00000400000000000000" pitchFamily="2" charset="-78"/>
            </a:rPr>
            <a:t>D</a:t>
          </a:r>
          <a:endParaRPr lang="en-SG" dirty="0">
            <a:cs typeface="B Nazanin" panose="00000400000000000000" pitchFamily="2" charset="-78"/>
          </a:endParaRPr>
        </a:p>
      </dgm:t>
    </dgm:pt>
    <dgm:pt modelId="{9E9FFBD9-EF24-4713-ADC5-98C62BFC4608}" type="parTrans" cxnId="{53DE5E13-AB89-41DE-8358-C2F54BF36C8E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DA35D026-CD71-466F-A352-1FDC391AA176}" type="sibTrans" cxnId="{53DE5E13-AB89-41DE-8358-C2F54BF36C8E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E29D31DE-1733-415D-BCD7-52FE7D025DC9}">
      <dgm:prSet/>
      <dgm:spPr/>
      <dgm:t>
        <a:bodyPr/>
        <a:lstStyle/>
        <a:p>
          <a:pPr rtl="1"/>
          <a:r>
            <a:rPr lang="fa-IR" dirty="0" smtClean="0">
              <a:cs typeface="B Nazanin" panose="00000400000000000000" pitchFamily="2" charset="-78"/>
            </a:rPr>
            <a:t>گروه </a:t>
          </a:r>
          <a:r>
            <a:rPr lang="en-SG" dirty="0" smtClean="0">
              <a:cs typeface="B Nazanin" panose="00000400000000000000" pitchFamily="2" charset="-78"/>
            </a:rPr>
            <a:t>K</a:t>
          </a:r>
          <a:endParaRPr lang="en-SG" dirty="0">
            <a:cs typeface="B Nazanin" panose="00000400000000000000" pitchFamily="2" charset="-78"/>
          </a:endParaRPr>
        </a:p>
      </dgm:t>
    </dgm:pt>
    <dgm:pt modelId="{E7268877-3638-4DD0-9597-BAC883B56E01}" type="parTrans" cxnId="{346FC3C0-6CE1-4C6F-A356-3277C8FF29E6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2D311FB5-8DD3-4B0F-B1FA-73FD78E73E3B}" type="sibTrans" cxnId="{346FC3C0-6CE1-4C6F-A356-3277C8FF29E6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301C561D-0C27-48A4-AF3E-886128B9B7F3}">
      <dgm:prSet/>
      <dgm:spPr/>
      <dgm:t>
        <a:bodyPr/>
        <a:lstStyle/>
        <a:p>
          <a:pPr rtl="1"/>
          <a:r>
            <a:rPr lang="fa-IR" dirty="0" smtClean="0">
              <a:cs typeface="B Nazanin" panose="00000400000000000000" pitchFamily="2" charset="-78"/>
            </a:rPr>
            <a:t>فلزات قابل اشتعال :منیزیم،آلومینیم،پتاسیم و… </a:t>
          </a:r>
          <a:endParaRPr lang="en-SG" dirty="0">
            <a:cs typeface="B Nazanin" panose="00000400000000000000" pitchFamily="2" charset="-78"/>
          </a:endParaRPr>
        </a:p>
      </dgm:t>
    </dgm:pt>
    <dgm:pt modelId="{122EA30E-6729-4200-AC34-EF6782BE341F}" type="parTrans" cxnId="{624505DD-043B-4A96-996A-6FE1257CA3C7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0E5017F8-A713-4F8D-8B6C-BD325C5AB12C}" type="sibTrans" cxnId="{624505DD-043B-4A96-996A-6FE1257CA3C7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FEDF77E4-0839-4D4F-9144-6E7309CB7FA8}">
      <dgm:prSet/>
      <dgm:spPr/>
      <dgm:t>
        <a:bodyPr/>
        <a:lstStyle/>
        <a:p>
          <a:pPr rtl="1"/>
          <a:r>
            <a:rPr lang="fa-IR" dirty="0" smtClean="0">
              <a:cs typeface="B Nazanin" panose="00000400000000000000" pitchFamily="2" charset="-78"/>
            </a:rPr>
            <a:t>روغن ها و چربی های پخت در آشپزخانه</a:t>
          </a:r>
          <a:endParaRPr lang="en-SG" dirty="0">
            <a:cs typeface="B Nazanin" panose="00000400000000000000" pitchFamily="2" charset="-78"/>
          </a:endParaRPr>
        </a:p>
      </dgm:t>
    </dgm:pt>
    <dgm:pt modelId="{0646CA2E-EE29-47CE-9588-8C09A67898DD}" type="parTrans" cxnId="{9F69D7F8-4021-42E2-9D7C-E396F7B5E457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DCCBF545-3D64-4048-8DB5-225B5DBDE372}" type="sibTrans" cxnId="{9F69D7F8-4021-42E2-9D7C-E396F7B5E457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D75C14F7-7647-44FD-9F25-E081D508FD81}" type="pres">
      <dgm:prSet presAssocID="{B53500A0-654A-4A43-B7A6-847F548D1C06}" presName="linearFlow" presStyleCnt="0">
        <dgm:presLayoutVars>
          <dgm:dir val="rev"/>
          <dgm:animLvl val="lvl"/>
          <dgm:resizeHandles val="exact"/>
        </dgm:presLayoutVars>
      </dgm:prSet>
      <dgm:spPr/>
      <dgm:t>
        <a:bodyPr/>
        <a:lstStyle/>
        <a:p>
          <a:endParaRPr lang="en-SG"/>
        </a:p>
      </dgm:t>
    </dgm:pt>
    <dgm:pt modelId="{A9532DA5-F361-4237-B973-0DC49F55EE48}" type="pres">
      <dgm:prSet presAssocID="{54C31A48-4999-46D6-8F4E-82621459D554}" presName="composite" presStyleCnt="0"/>
      <dgm:spPr/>
    </dgm:pt>
    <dgm:pt modelId="{F8BE8BA7-7225-4F90-9180-0285823F773C}" type="pres">
      <dgm:prSet presAssocID="{54C31A48-4999-46D6-8F4E-82621459D554}" presName="parentText" presStyleLbl="alignNode1" presStyleIdx="0" presStyleCnt="5">
        <dgm:presLayoutVars>
          <dgm:chMax val="1"/>
          <dgm:bulletEnabled val="1"/>
        </dgm:presLayoutVars>
      </dgm:prSet>
      <dgm:spPr/>
      <dgm:t>
        <a:bodyPr/>
        <a:lstStyle/>
        <a:p>
          <a:endParaRPr lang="en-SG"/>
        </a:p>
      </dgm:t>
    </dgm:pt>
    <dgm:pt modelId="{5B9B9CE7-E432-4A65-B832-25990C93D580}" type="pres">
      <dgm:prSet presAssocID="{54C31A48-4999-46D6-8F4E-82621459D554}" presName="descendantText" presStyleLbl="alignAcc1" presStyleIdx="0" presStyleCnt="5">
        <dgm:presLayoutVars>
          <dgm:bulletEnabled val="1"/>
        </dgm:presLayoutVars>
      </dgm:prSet>
      <dgm:spPr/>
      <dgm:t>
        <a:bodyPr/>
        <a:lstStyle/>
        <a:p>
          <a:endParaRPr lang="en-SG"/>
        </a:p>
      </dgm:t>
    </dgm:pt>
    <dgm:pt modelId="{8349B932-21F9-4250-9FF9-C120550F844C}" type="pres">
      <dgm:prSet presAssocID="{54D790F1-99FE-4009-9493-A06966C3A36C}" presName="sp" presStyleCnt="0"/>
      <dgm:spPr/>
    </dgm:pt>
    <dgm:pt modelId="{87E699C6-2777-46DB-BD58-FB07AE3319DB}" type="pres">
      <dgm:prSet presAssocID="{F0F81A63-7ED7-41DC-9892-A0E483D39A49}" presName="composite" presStyleCnt="0"/>
      <dgm:spPr/>
    </dgm:pt>
    <dgm:pt modelId="{046BECE5-80FA-4660-ACA4-FF697CB6B749}" type="pres">
      <dgm:prSet presAssocID="{F0F81A63-7ED7-41DC-9892-A0E483D39A49}" presName="parentText" presStyleLbl="alignNode1" presStyleIdx="1" presStyleCnt="5">
        <dgm:presLayoutVars>
          <dgm:chMax val="1"/>
          <dgm:bulletEnabled val="1"/>
        </dgm:presLayoutVars>
      </dgm:prSet>
      <dgm:spPr/>
      <dgm:t>
        <a:bodyPr/>
        <a:lstStyle/>
        <a:p>
          <a:endParaRPr lang="en-SG"/>
        </a:p>
      </dgm:t>
    </dgm:pt>
    <dgm:pt modelId="{EE848C31-3495-47EC-A8F2-233B66CCBFF9}" type="pres">
      <dgm:prSet presAssocID="{F0F81A63-7ED7-41DC-9892-A0E483D39A49}" presName="descendantText" presStyleLbl="alignAcc1" presStyleIdx="1" presStyleCnt="5">
        <dgm:presLayoutVars>
          <dgm:bulletEnabled val="1"/>
        </dgm:presLayoutVars>
      </dgm:prSet>
      <dgm:spPr/>
      <dgm:t>
        <a:bodyPr/>
        <a:lstStyle/>
        <a:p>
          <a:endParaRPr lang="en-SG"/>
        </a:p>
      </dgm:t>
    </dgm:pt>
    <dgm:pt modelId="{0D093C16-08E1-4937-A53C-374B9240604D}" type="pres">
      <dgm:prSet presAssocID="{0F24E2E8-0F40-4B4F-AE04-AA160E43D1A5}" presName="sp" presStyleCnt="0"/>
      <dgm:spPr/>
    </dgm:pt>
    <dgm:pt modelId="{84DFCA00-CC7E-45B5-B5A2-02A917EE8361}" type="pres">
      <dgm:prSet presAssocID="{E87895A8-4BD3-47C7-84B4-8CD7F18E4374}" presName="composite" presStyleCnt="0"/>
      <dgm:spPr/>
    </dgm:pt>
    <dgm:pt modelId="{5A033AB5-3EF5-420B-8350-23D9C3EAB705}" type="pres">
      <dgm:prSet presAssocID="{E87895A8-4BD3-47C7-84B4-8CD7F18E4374}" presName="parentText" presStyleLbl="alignNode1" presStyleIdx="2" presStyleCnt="5">
        <dgm:presLayoutVars>
          <dgm:chMax val="1"/>
          <dgm:bulletEnabled val="1"/>
        </dgm:presLayoutVars>
      </dgm:prSet>
      <dgm:spPr/>
      <dgm:t>
        <a:bodyPr/>
        <a:lstStyle/>
        <a:p>
          <a:endParaRPr lang="en-SG"/>
        </a:p>
      </dgm:t>
    </dgm:pt>
    <dgm:pt modelId="{835A8605-A096-4AFB-B569-E4F0906E218E}" type="pres">
      <dgm:prSet presAssocID="{E87895A8-4BD3-47C7-84B4-8CD7F18E4374}" presName="descendantText" presStyleLbl="alignAcc1" presStyleIdx="2" presStyleCnt="5">
        <dgm:presLayoutVars>
          <dgm:bulletEnabled val="1"/>
        </dgm:presLayoutVars>
      </dgm:prSet>
      <dgm:spPr/>
      <dgm:t>
        <a:bodyPr/>
        <a:lstStyle/>
        <a:p>
          <a:endParaRPr lang="en-SG"/>
        </a:p>
      </dgm:t>
    </dgm:pt>
    <dgm:pt modelId="{94DECE45-AEF9-4B52-9211-377FB52CB8D0}" type="pres">
      <dgm:prSet presAssocID="{8FDBB641-6392-4CA4-B9E1-88FE67F78F04}" presName="sp" presStyleCnt="0"/>
      <dgm:spPr/>
    </dgm:pt>
    <dgm:pt modelId="{846AFF70-E9A6-4E4B-952B-34C7EF9632A2}" type="pres">
      <dgm:prSet presAssocID="{C3450207-6E01-4CCE-B9F0-7C3D2DA50977}" presName="composite" presStyleCnt="0"/>
      <dgm:spPr/>
    </dgm:pt>
    <dgm:pt modelId="{4D168BB2-DFBF-4F69-8214-3CA6D594B75A}" type="pres">
      <dgm:prSet presAssocID="{C3450207-6E01-4CCE-B9F0-7C3D2DA50977}" presName="parentText" presStyleLbl="alignNode1" presStyleIdx="3" presStyleCnt="5">
        <dgm:presLayoutVars>
          <dgm:chMax val="1"/>
          <dgm:bulletEnabled val="1"/>
        </dgm:presLayoutVars>
      </dgm:prSet>
      <dgm:spPr/>
      <dgm:t>
        <a:bodyPr/>
        <a:lstStyle/>
        <a:p>
          <a:endParaRPr lang="en-SG"/>
        </a:p>
      </dgm:t>
    </dgm:pt>
    <dgm:pt modelId="{0171C8BB-FA0A-495D-AA66-721B73390485}" type="pres">
      <dgm:prSet presAssocID="{C3450207-6E01-4CCE-B9F0-7C3D2DA50977}" presName="descendantText" presStyleLbl="alignAcc1" presStyleIdx="3" presStyleCnt="5">
        <dgm:presLayoutVars>
          <dgm:bulletEnabled val="1"/>
        </dgm:presLayoutVars>
      </dgm:prSet>
      <dgm:spPr/>
      <dgm:t>
        <a:bodyPr/>
        <a:lstStyle/>
        <a:p>
          <a:endParaRPr lang="en-SG"/>
        </a:p>
      </dgm:t>
    </dgm:pt>
    <dgm:pt modelId="{C9995DFD-9554-4EA4-A88E-A1C21B947D7D}" type="pres">
      <dgm:prSet presAssocID="{DA35D026-CD71-466F-A352-1FDC391AA176}" presName="sp" presStyleCnt="0"/>
      <dgm:spPr/>
    </dgm:pt>
    <dgm:pt modelId="{9236855D-E3F9-4A6B-B2E9-4720C2192D82}" type="pres">
      <dgm:prSet presAssocID="{E29D31DE-1733-415D-BCD7-52FE7D025DC9}" presName="composite" presStyleCnt="0"/>
      <dgm:spPr/>
    </dgm:pt>
    <dgm:pt modelId="{5745180A-9D7B-4C32-B4F8-4F9C3AF12B80}" type="pres">
      <dgm:prSet presAssocID="{E29D31DE-1733-415D-BCD7-52FE7D025DC9}" presName="parentText" presStyleLbl="alignNode1" presStyleIdx="4" presStyleCnt="5">
        <dgm:presLayoutVars>
          <dgm:chMax val="1"/>
          <dgm:bulletEnabled val="1"/>
        </dgm:presLayoutVars>
      </dgm:prSet>
      <dgm:spPr/>
      <dgm:t>
        <a:bodyPr/>
        <a:lstStyle/>
        <a:p>
          <a:endParaRPr lang="en-SG"/>
        </a:p>
      </dgm:t>
    </dgm:pt>
    <dgm:pt modelId="{ACF71AD0-FB08-482A-A9E1-A5B064333AF8}" type="pres">
      <dgm:prSet presAssocID="{E29D31DE-1733-415D-BCD7-52FE7D025DC9}" presName="descendantText" presStyleLbl="alignAcc1" presStyleIdx="4" presStyleCnt="5">
        <dgm:presLayoutVars>
          <dgm:bulletEnabled val="1"/>
        </dgm:presLayoutVars>
      </dgm:prSet>
      <dgm:spPr/>
      <dgm:t>
        <a:bodyPr/>
        <a:lstStyle/>
        <a:p>
          <a:endParaRPr lang="en-SG"/>
        </a:p>
      </dgm:t>
    </dgm:pt>
  </dgm:ptLst>
  <dgm:cxnLst>
    <dgm:cxn modelId="{346FC3C0-6CE1-4C6F-A356-3277C8FF29E6}" srcId="{B53500A0-654A-4A43-B7A6-847F548D1C06}" destId="{E29D31DE-1733-415D-BCD7-52FE7D025DC9}" srcOrd="4" destOrd="0" parTransId="{E7268877-3638-4DD0-9597-BAC883B56E01}" sibTransId="{2D311FB5-8DD3-4B0F-B1FA-73FD78E73E3B}"/>
    <dgm:cxn modelId="{34121961-7271-4D63-8917-2351824B4007}" srcId="{B53500A0-654A-4A43-B7A6-847F548D1C06}" destId="{E87895A8-4BD3-47C7-84B4-8CD7F18E4374}" srcOrd="2" destOrd="0" parTransId="{3CD4A2B8-907B-4AFA-9D19-B4CD470FCF51}" sibTransId="{8FDBB641-6392-4CA4-B9E1-88FE67F78F04}"/>
    <dgm:cxn modelId="{624505DD-043B-4A96-996A-6FE1257CA3C7}" srcId="{C3450207-6E01-4CCE-B9F0-7C3D2DA50977}" destId="{301C561D-0C27-48A4-AF3E-886128B9B7F3}" srcOrd="0" destOrd="0" parTransId="{122EA30E-6729-4200-AC34-EF6782BE341F}" sibTransId="{0E5017F8-A713-4F8D-8B6C-BD325C5AB12C}"/>
    <dgm:cxn modelId="{508618F5-C7F9-4861-9ACD-9C4965344D64}" type="presOf" srcId="{54C31A48-4999-46D6-8F4E-82621459D554}" destId="{F8BE8BA7-7225-4F90-9180-0285823F773C}" srcOrd="0" destOrd="0" presId="urn:microsoft.com/office/officeart/2005/8/layout/chevron2"/>
    <dgm:cxn modelId="{53DE5E13-AB89-41DE-8358-C2F54BF36C8E}" srcId="{B53500A0-654A-4A43-B7A6-847F548D1C06}" destId="{C3450207-6E01-4CCE-B9F0-7C3D2DA50977}" srcOrd="3" destOrd="0" parTransId="{9E9FFBD9-EF24-4713-ADC5-98C62BFC4608}" sibTransId="{DA35D026-CD71-466F-A352-1FDC391AA176}"/>
    <dgm:cxn modelId="{0030FA97-1B4F-4CDD-8622-209D7C377CEB}" srcId="{B53500A0-654A-4A43-B7A6-847F548D1C06}" destId="{F0F81A63-7ED7-41DC-9892-A0E483D39A49}" srcOrd="1" destOrd="0" parTransId="{8259298E-E5CC-42B4-B22D-F966278E69BB}" sibTransId="{0F24E2E8-0F40-4B4F-AE04-AA160E43D1A5}"/>
    <dgm:cxn modelId="{23BAA434-5FE2-44C0-8AB8-3DBC0608BAC8}" srcId="{B53500A0-654A-4A43-B7A6-847F548D1C06}" destId="{54C31A48-4999-46D6-8F4E-82621459D554}" srcOrd="0" destOrd="0" parTransId="{F620177C-0B66-4CBB-A621-5363D9629BE3}" sibTransId="{54D790F1-99FE-4009-9493-A06966C3A36C}"/>
    <dgm:cxn modelId="{517BA778-BB43-4C93-B994-D451ABC58A9E}" type="presOf" srcId="{F0F81A63-7ED7-41DC-9892-A0E483D39A49}" destId="{046BECE5-80FA-4660-ACA4-FF697CB6B749}" srcOrd="0" destOrd="0" presId="urn:microsoft.com/office/officeart/2005/8/layout/chevron2"/>
    <dgm:cxn modelId="{672FB341-CCA8-4C03-99D5-897535F35648}" srcId="{54C31A48-4999-46D6-8F4E-82621459D554}" destId="{C4843F62-836F-4783-88BD-36404297F51E}" srcOrd="0" destOrd="0" parTransId="{53BAAA5F-D853-449B-A166-CCFFC00DB43A}" sibTransId="{D3EAB1B8-BED0-4E27-A547-10BF403D0400}"/>
    <dgm:cxn modelId="{78A9F40F-4DA1-405F-A2E4-BE3BE2E0ECAD}" type="presOf" srcId="{FEDF77E4-0839-4D4F-9144-6E7309CB7FA8}" destId="{ACF71AD0-FB08-482A-A9E1-A5B064333AF8}" srcOrd="0" destOrd="0" presId="urn:microsoft.com/office/officeart/2005/8/layout/chevron2"/>
    <dgm:cxn modelId="{6A4FD7D8-F937-429E-9AC3-B842B15EB8F3}" type="presOf" srcId="{C4843F62-836F-4783-88BD-36404297F51E}" destId="{5B9B9CE7-E432-4A65-B832-25990C93D580}" srcOrd="0" destOrd="0" presId="urn:microsoft.com/office/officeart/2005/8/layout/chevron2"/>
    <dgm:cxn modelId="{3D9B571B-3099-494F-87B7-1336D2E4C88F}" type="presOf" srcId="{C3450207-6E01-4CCE-B9F0-7C3D2DA50977}" destId="{4D168BB2-DFBF-4F69-8214-3CA6D594B75A}" srcOrd="0" destOrd="0" presId="urn:microsoft.com/office/officeart/2005/8/layout/chevron2"/>
    <dgm:cxn modelId="{AA76C617-5167-49BA-9D39-3222E927FE4B}" type="presOf" srcId="{E87895A8-4BD3-47C7-84B4-8CD7F18E4374}" destId="{5A033AB5-3EF5-420B-8350-23D9C3EAB705}" srcOrd="0" destOrd="0" presId="urn:microsoft.com/office/officeart/2005/8/layout/chevron2"/>
    <dgm:cxn modelId="{7C41788D-871C-4D27-AADD-14333FD76A52}" type="presOf" srcId="{B53500A0-654A-4A43-B7A6-847F548D1C06}" destId="{D75C14F7-7647-44FD-9F25-E081D508FD81}" srcOrd="0" destOrd="0" presId="urn:microsoft.com/office/officeart/2005/8/layout/chevron2"/>
    <dgm:cxn modelId="{5F468F98-83E2-460E-92AE-72B6334EA2AD}" srcId="{E87895A8-4BD3-47C7-84B4-8CD7F18E4374}" destId="{6B3E51C4-651E-4815-B39D-E945C0358781}" srcOrd="0" destOrd="0" parTransId="{13E44969-E01D-440F-87BB-67399DE9D5CE}" sibTransId="{9E183BF8-8BDF-46DA-A223-1AED3A16DDA4}"/>
    <dgm:cxn modelId="{8AD61F54-7D8E-4413-AA71-CA42DF8CEDE5}" type="presOf" srcId="{76AECB33-C3FD-4FD0-A011-D23B3913B580}" destId="{EE848C31-3495-47EC-A8F2-233B66CCBFF9}" srcOrd="0" destOrd="0" presId="urn:microsoft.com/office/officeart/2005/8/layout/chevron2"/>
    <dgm:cxn modelId="{2F07CF6B-251B-4962-91B9-5A89578DD480}" srcId="{F0F81A63-7ED7-41DC-9892-A0E483D39A49}" destId="{76AECB33-C3FD-4FD0-A011-D23B3913B580}" srcOrd="0" destOrd="0" parTransId="{027C7094-4034-4947-91EC-BAE9EABC0081}" sibTransId="{DCC0DE10-079B-46A8-951F-5C6FF899E23B}"/>
    <dgm:cxn modelId="{1B7A74A6-B81A-4A1B-96A6-7804410A6B42}" type="presOf" srcId="{301C561D-0C27-48A4-AF3E-886128B9B7F3}" destId="{0171C8BB-FA0A-495D-AA66-721B73390485}" srcOrd="0" destOrd="0" presId="urn:microsoft.com/office/officeart/2005/8/layout/chevron2"/>
    <dgm:cxn modelId="{156A79EF-1187-4E2A-A24E-F9CEC59FA4A4}" type="presOf" srcId="{6B3E51C4-651E-4815-B39D-E945C0358781}" destId="{835A8605-A096-4AFB-B569-E4F0906E218E}" srcOrd="0" destOrd="0" presId="urn:microsoft.com/office/officeart/2005/8/layout/chevron2"/>
    <dgm:cxn modelId="{9F69D7F8-4021-42E2-9D7C-E396F7B5E457}" srcId="{E29D31DE-1733-415D-BCD7-52FE7D025DC9}" destId="{FEDF77E4-0839-4D4F-9144-6E7309CB7FA8}" srcOrd="0" destOrd="0" parTransId="{0646CA2E-EE29-47CE-9588-8C09A67898DD}" sibTransId="{DCCBF545-3D64-4048-8DB5-225B5DBDE372}"/>
    <dgm:cxn modelId="{8BF6F4E4-046C-4A51-A3B3-D3B633F54E92}" type="presOf" srcId="{E29D31DE-1733-415D-BCD7-52FE7D025DC9}" destId="{5745180A-9D7B-4C32-B4F8-4F9C3AF12B80}" srcOrd="0" destOrd="0" presId="urn:microsoft.com/office/officeart/2005/8/layout/chevron2"/>
    <dgm:cxn modelId="{6C77749D-90D0-4F8D-8BF5-C495D5869B8A}" type="presParOf" srcId="{D75C14F7-7647-44FD-9F25-E081D508FD81}" destId="{A9532DA5-F361-4237-B973-0DC49F55EE48}" srcOrd="0" destOrd="0" presId="urn:microsoft.com/office/officeart/2005/8/layout/chevron2"/>
    <dgm:cxn modelId="{141DCC57-E6C1-4F09-8535-9281FF68EA33}" type="presParOf" srcId="{A9532DA5-F361-4237-B973-0DC49F55EE48}" destId="{F8BE8BA7-7225-4F90-9180-0285823F773C}" srcOrd="0" destOrd="0" presId="urn:microsoft.com/office/officeart/2005/8/layout/chevron2"/>
    <dgm:cxn modelId="{8AF74147-7D1D-49CA-BF96-A3CD70FACF1A}" type="presParOf" srcId="{A9532DA5-F361-4237-B973-0DC49F55EE48}" destId="{5B9B9CE7-E432-4A65-B832-25990C93D580}" srcOrd="1" destOrd="0" presId="urn:microsoft.com/office/officeart/2005/8/layout/chevron2"/>
    <dgm:cxn modelId="{B9101FE6-F791-4068-BB61-47D7DF03444A}" type="presParOf" srcId="{D75C14F7-7647-44FD-9F25-E081D508FD81}" destId="{8349B932-21F9-4250-9FF9-C120550F844C}" srcOrd="1" destOrd="0" presId="urn:microsoft.com/office/officeart/2005/8/layout/chevron2"/>
    <dgm:cxn modelId="{B17CA0B7-35FD-4BBD-A66B-6B998B771073}" type="presParOf" srcId="{D75C14F7-7647-44FD-9F25-E081D508FD81}" destId="{87E699C6-2777-46DB-BD58-FB07AE3319DB}" srcOrd="2" destOrd="0" presId="urn:microsoft.com/office/officeart/2005/8/layout/chevron2"/>
    <dgm:cxn modelId="{FF684151-0191-4D0D-B5E0-59DD38E2CB6E}" type="presParOf" srcId="{87E699C6-2777-46DB-BD58-FB07AE3319DB}" destId="{046BECE5-80FA-4660-ACA4-FF697CB6B749}" srcOrd="0" destOrd="0" presId="urn:microsoft.com/office/officeart/2005/8/layout/chevron2"/>
    <dgm:cxn modelId="{C3678F06-BD27-4E4B-94DD-36E12261493A}" type="presParOf" srcId="{87E699C6-2777-46DB-BD58-FB07AE3319DB}" destId="{EE848C31-3495-47EC-A8F2-233B66CCBFF9}" srcOrd="1" destOrd="0" presId="urn:microsoft.com/office/officeart/2005/8/layout/chevron2"/>
    <dgm:cxn modelId="{565B90DE-976C-43CC-970C-F0DFA65957D7}" type="presParOf" srcId="{D75C14F7-7647-44FD-9F25-E081D508FD81}" destId="{0D093C16-08E1-4937-A53C-374B9240604D}" srcOrd="3" destOrd="0" presId="urn:microsoft.com/office/officeart/2005/8/layout/chevron2"/>
    <dgm:cxn modelId="{4BB162D6-54A1-4B50-A812-B8BDAEE2CBD1}" type="presParOf" srcId="{D75C14F7-7647-44FD-9F25-E081D508FD81}" destId="{84DFCA00-CC7E-45B5-B5A2-02A917EE8361}" srcOrd="4" destOrd="0" presId="urn:microsoft.com/office/officeart/2005/8/layout/chevron2"/>
    <dgm:cxn modelId="{4469ABF9-517A-4245-B6C7-04D0FB00578D}" type="presParOf" srcId="{84DFCA00-CC7E-45B5-B5A2-02A917EE8361}" destId="{5A033AB5-3EF5-420B-8350-23D9C3EAB705}" srcOrd="0" destOrd="0" presId="urn:microsoft.com/office/officeart/2005/8/layout/chevron2"/>
    <dgm:cxn modelId="{F817E5E1-32C5-4D82-8771-F2022F91576A}" type="presParOf" srcId="{84DFCA00-CC7E-45B5-B5A2-02A917EE8361}" destId="{835A8605-A096-4AFB-B569-E4F0906E218E}" srcOrd="1" destOrd="0" presId="urn:microsoft.com/office/officeart/2005/8/layout/chevron2"/>
    <dgm:cxn modelId="{B98F6D18-52B2-4B70-9C6F-4DF66162F5E4}" type="presParOf" srcId="{D75C14F7-7647-44FD-9F25-E081D508FD81}" destId="{94DECE45-AEF9-4B52-9211-377FB52CB8D0}" srcOrd="5" destOrd="0" presId="urn:microsoft.com/office/officeart/2005/8/layout/chevron2"/>
    <dgm:cxn modelId="{E185B77D-9770-4B2C-96CD-A0C83E4489D4}" type="presParOf" srcId="{D75C14F7-7647-44FD-9F25-E081D508FD81}" destId="{846AFF70-E9A6-4E4B-952B-34C7EF9632A2}" srcOrd="6" destOrd="0" presId="urn:microsoft.com/office/officeart/2005/8/layout/chevron2"/>
    <dgm:cxn modelId="{78EE7CA3-FA8F-4C44-96B4-F2AAF20FEFB4}" type="presParOf" srcId="{846AFF70-E9A6-4E4B-952B-34C7EF9632A2}" destId="{4D168BB2-DFBF-4F69-8214-3CA6D594B75A}" srcOrd="0" destOrd="0" presId="urn:microsoft.com/office/officeart/2005/8/layout/chevron2"/>
    <dgm:cxn modelId="{6CB2FBD6-1E2C-4884-90D7-EC5C18CD2017}" type="presParOf" srcId="{846AFF70-E9A6-4E4B-952B-34C7EF9632A2}" destId="{0171C8BB-FA0A-495D-AA66-721B73390485}" srcOrd="1" destOrd="0" presId="urn:microsoft.com/office/officeart/2005/8/layout/chevron2"/>
    <dgm:cxn modelId="{E88494E8-0226-4323-83DF-7A2B8A46022C}" type="presParOf" srcId="{D75C14F7-7647-44FD-9F25-E081D508FD81}" destId="{C9995DFD-9554-4EA4-A88E-A1C21B947D7D}" srcOrd="7" destOrd="0" presId="urn:microsoft.com/office/officeart/2005/8/layout/chevron2"/>
    <dgm:cxn modelId="{0E6BFECB-10F8-4EEB-BCFA-F49DFCE9A92D}" type="presParOf" srcId="{D75C14F7-7647-44FD-9F25-E081D508FD81}" destId="{9236855D-E3F9-4A6B-B2E9-4720C2192D82}" srcOrd="8" destOrd="0" presId="urn:microsoft.com/office/officeart/2005/8/layout/chevron2"/>
    <dgm:cxn modelId="{BF327FBD-45F9-465C-85CA-5FD9B5AF450C}" type="presParOf" srcId="{9236855D-E3F9-4A6B-B2E9-4720C2192D82}" destId="{5745180A-9D7B-4C32-B4F8-4F9C3AF12B80}" srcOrd="0" destOrd="0" presId="urn:microsoft.com/office/officeart/2005/8/layout/chevron2"/>
    <dgm:cxn modelId="{F0D42A0C-9E9A-4DA3-90E4-81E069028E1F}" type="presParOf" srcId="{9236855D-E3F9-4A6B-B2E9-4720C2192D82}" destId="{ACF71AD0-FB08-482A-A9E1-A5B064333AF8}" srcOrd="1" destOrd="0" presId="urn:microsoft.com/office/officeart/2005/8/layout/chevron2"/>
  </dgm:cxnLst>
  <dgm:bg/>
  <dgm:whole/>
  <dgm:extLst>
    <a:ext uri="http://schemas.microsoft.com/office/drawing/2008/diagram">
      <dsp:dataModelExt xmlns:dsp="http://schemas.microsoft.com/office/drawing/2008/diagram" relId="rId7" minVer="http://schemas.openxmlformats.org/drawingml/2006/diagram"/>
    </a:ext>
  </dgm:extLst>
</dgm:dataModel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chevron2">
  <dgm:title val=""/>
  <dgm:desc val=""/>
  <dgm:catLst>
    <dgm:cat type="process" pri="12000"/>
    <dgm:cat type="list" pri="16000"/>
    <dgm:cat type="convert" pri="1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  <dgm:cxn modelId="13" srcId="1" destId="11" srcOrd="0" destOrd="0"/>
        <dgm:cxn modelId="14" srcId="1" destId="12" srcOrd="1" destOrd="0"/>
        <dgm:cxn modelId="23" srcId="2" destId="21" srcOrd="0" destOrd="0"/>
        <dgm:cxn modelId="24" srcId="2" destId="22" srcOrd="1" destOrd="0"/>
        <dgm:cxn modelId="33" srcId="3" destId="31" srcOrd="0" destOrd="0"/>
        <dgm:cxn modelId="34" srcId="3" destId="32" srcOrd="1" destOrd="0"/>
      </dgm:cxnLst>
      <dgm:bg/>
      <dgm:whole/>
    </dgm:dataModel>
  </dgm:sampData>
  <dgm:styleData>
    <dgm:dataModel>
      <dgm:ptLst>
        <dgm:pt modelId="0" type="doc"/>
        <dgm:pt modelId="1"/>
      </dgm:ptLst>
      <dgm:cxnLst>
        <dgm:cxn modelId="4" srcId="0" destId="1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clrData>
  <dgm:layoutNode name="linearFlow">
    <dgm:varLst>
      <dgm:dir/>
      <dgm:animLvl val="lvl"/>
      <dgm:resizeHandles val="exact"/>
    </dgm:varLst>
    <dgm:alg type="lin">
      <dgm:param type="linDir" val="fromT"/>
      <dgm:param type="nodeHorzAlign" val="l"/>
    </dgm:alg>
    <dgm:shape xmlns:r="http://schemas.openxmlformats.org/officeDocument/2006/relationships" r:blip="">
      <dgm:adjLst/>
    </dgm:shape>
    <dgm:presOf/>
    <dgm:constrLst>
      <dgm:constr type="h" for="ch" forName="composite" refType="h"/>
      <dgm:constr type="w" for="ch" forName="composite" refType="w"/>
      <dgm:constr type="h" for="des" forName="parentText" op="equ"/>
      <dgm:constr type="h" for="ch" forName="sp" val="-14.88"/>
      <dgm:constr type="h" for="ch" forName="sp" refType="w" refFor="des" refForName="parentText" op="gte" fact="-0.3"/>
      <dgm:constr type="primFontSz" for="des" forName="parentText" op="equ" val="65"/>
      <dgm:constr type="primFontSz" for="des" forName="descendantText" op="equ" val="65"/>
    </dgm:constrLst>
    <dgm:ruleLst/>
    <dgm:forEach name="Name0" axis="ch" ptType="node">
      <dgm:layoutNode name="composite">
        <dgm:alg type="composite"/>
        <dgm:shape xmlns:r="http://schemas.openxmlformats.org/officeDocument/2006/relationships" r:blip="">
          <dgm:adjLst/>
        </dgm:shape>
        <dgm:presOf/>
        <dgm:choose name="Name1">
          <dgm:if name="Name2" func="var" arg="dir" op="equ" val="norm">
            <dgm:constrLst>
              <dgm:constr type="t" for="ch" forName="parentText"/>
              <dgm:constr type="l" for="ch" forName="parentText"/>
              <dgm:constr type="w" for="ch" forName="parentText" refType="w" fact="0.4"/>
              <dgm:constr type="h" for="ch" forName="parentText" refType="h"/>
              <dgm:constr type="w" for="ch" forName="parentText" refType="w" op="lte" fact="0.5"/>
              <dgm:constr type="w" for="ch" forName="parentText" refType="h" refFor="ch" refForName="parentText" op="lte" fact="0.7"/>
              <dgm:constr type="h" for="ch" forName="parentText" refType="w" refFor="ch" refForName="parentText" op="lte" fact="3"/>
              <dgm:constr type="l" for="ch" forName="descendantText" refType="w" refFor="ch" refForName="parentText"/>
              <dgm:constr type="w" for="ch" forName="descendantText" refType="w"/>
              <dgm:constr type="wOff" for="ch" forName="descendantText" refType="w" refFor="ch" refForName="parentText" fact="-1"/>
              <dgm:constr type="t" for="ch" forName="descendantText"/>
              <dgm:constr type="b" for="ch" forName="descendantText" refType="h" refFor="ch" refForName="parentText"/>
              <dgm:constr type="bOff" for="ch" forName="descendantText" refType="w" refFor="ch" refForName="parentText" fact="-0.5"/>
            </dgm:constrLst>
          </dgm:if>
          <dgm:else name="Name3">
            <dgm:constrLst>
              <dgm:constr type="t" for="ch" forName="parentText"/>
              <dgm:constr type="r" for="ch" forName="parentText" refType="w"/>
              <dgm:constr type="w" for="ch" forName="parentText" refType="w" fact="0.4"/>
              <dgm:constr type="h" for="ch" forName="parentText" refType="h"/>
              <dgm:constr type="w" for="ch" forName="parentText" refType="w" op="lte" fact="0.5"/>
              <dgm:constr type="w" for="ch" forName="parentText" refType="h" refFor="ch" refForName="parentText" op="lte" fact="0.7"/>
              <dgm:constr type="h" for="ch" forName="parentText" refType="w" refFor="ch" refForName="parentText" op="lte" fact="3"/>
              <dgm:constr type="l" for="ch" forName="descendantText"/>
              <dgm:constr type="w" for="ch" forName="descendantText" refType="w"/>
              <dgm:constr type="wOff" for="ch" forName="descendantText" refType="w" refFor="ch" refForName="parentText" fact="-1"/>
              <dgm:constr type="t" for="ch" forName="descendantText"/>
              <dgm:constr type="b" for="ch" forName="descendantText" refType="h" refFor="ch" refForName="parentText"/>
              <dgm:constr type="bOff" for="ch" forName="descendantText" refType="w" refFor="ch" refForName="parentText" fact="-0.5"/>
            </dgm:constrLst>
          </dgm:else>
        </dgm:choose>
        <dgm:ruleLst/>
        <dgm:layoutNode name="parentText" styleLbl="alignNode1">
          <dgm:varLst>
            <dgm:chMax val="1"/>
            <dgm:bulletEnabled val="1"/>
          </dgm:varLst>
          <dgm:alg type="tx"/>
          <dgm:shape xmlns:r="http://schemas.openxmlformats.org/officeDocument/2006/relationships" rot="90" type="chevron" r:blip="">
            <dgm:adjLst/>
          </dgm:shape>
          <dgm:presOf axis="self" ptType="node"/>
          <dgm:constrLst>
            <dgm:constr type="lMarg" refType="primFontSz" fact="0.05"/>
            <dgm:constr type="rMarg" refType="primFontSz" fact="0.05"/>
            <dgm:constr type="tMarg" refType="primFontSz" fact="0.05"/>
            <dgm:constr type="bMarg" refType="primFontSz" fact="0.05"/>
          </dgm:constrLst>
          <dgm:ruleLst>
            <dgm:rule type="h" val="100" fact="NaN" max="NaN"/>
            <dgm:rule type="primFontSz" val="24" fact="NaN" max="NaN"/>
            <dgm:rule type="h" val="110" fact="NaN" max="NaN"/>
            <dgm:rule type="primFontSz" val="18" fact="NaN" max="NaN"/>
            <dgm:rule type="h" val="INF" fact="NaN" max="NaN"/>
            <dgm:rule type="primFontSz" val="5" fact="NaN" max="NaN"/>
          </dgm:ruleLst>
        </dgm:layoutNode>
        <dgm:layoutNode name="descendantText" styleLbl="alignAcc1">
          <dgm:varLst>
            <dgm:bulletEnabled val="1"/>
          </dgm:varLst>
          <dgm:choose name="Name4">
            <dgm:if name="Name5" func="var" arg="dir" op="equ" val="norm">
              <dgm:alg type="tx">
                <dgm:param type="stBulletLvl" val="1"/>
                <dgm:param type="txAnchorVertCh" val="mid"/>
              </dgm:alg>
              <dgm:shape xmlns:r="http://schemas.openxmlformats.org/officeDocument/2006/relationships" rot="90" type="round2SameRect" r:blip="">
                <dgm:adjLst/>
              </dgm:shape>
            </dgm:if>
            <dgm:else name="Name6">
              <dgm:alg type="tx">
                <dgm:param type="stBulletLvl" val="1"/>
                <dgm:param type="txAnchorVertCh" val="mid"/>
              </dgm:alg>
              <dgm:shape xmlns:r="http://schemas.openxmlformats.org/officeDocument/2006/relationships" rot="-90" type="round2SameRect" r:blip="">
                <dgm:adjLst/>
              </dgm:shape>
            </dgm:else>
          </dgm:choose>
          <dgm:presOf axis="des" ptType="node"/>
          <dgm:choose name="Name7">
            <dgm:if name="Name8" func="var" arg="dir" op="equ" val="norm">
              <dgm:constrLst>
                <dgm:constr type="secFontSz" refType="primFontSz"/>
                <dgm:constr type="tMarg" refType="primFontSz" fact="0.05"/>
                <dgm:constr type="bMarg" refType="primFontSz" fact="0.05"/>
                <dgm:constr type="rMarg" refType="primFontSz" fact="0.05"/>
              </dgm:constrLst>
            </dgm:if>
            <dgm:else name="Name9">
              <dgm:constrLst>
                <dgm:constr type="secFontSz" refType="primFontSz"/>
                <dgm:constr type="tMarg" refType="primFontSz" fact="0.05"/>
                <dgm:constr type="bMarg" refType="primFontSz" fact="0.05"/>
                <dgm:constr type="lMarg" refType="primFontSz" fact="0.05"/>
              </dgm:constrLst>
            </dgm:else>
          </dgm:choose>
          <dgm:ruleLst>
            <dgm:rule type="primFontSz" val="5" fact="NaN" max="NaN"/>
          </dgm:ruleLst>
        </dgm:layoutNode>
      </dgm:layoutNode>
      <dgm:forEach name="Name10" axis="followSib" ptType="sibTrans" cnt="1">
        <dgm:layoutNode name="sp">
          <dgm:alg type="sp"/>
          <dgm:shape xmlns:r="http://schemas.openxmlformats.org/officeDocument/2006/relationships" r:blip="">
            <dgm:adjLst/>
          </dgm:shape>
          <dgm:presOf axis="self"/>
          <dgm:constrLst>
            <dgm:constr type="w" val="1"/>
            <dgm:constr type="h" val="37.5"/>
          </dgm:constrLst>
          <dgm:ruleLst/>
        </dgm:layoutNode>
      </dgm:forEach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dt" idx="8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9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10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B49EFB5-5A15-480C-B613-1F72F5F294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E2E54044-A052-4B47-81AA-50EB8A3A942D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40EF9-6FEE-4AA5-AF31-F1FE06498D1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C2D1C-D877-43B4-8344-CE5BA06F0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4BB7F-9958-447A-9261-33E30618B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198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816084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0792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6198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816084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D41C0-1F22-49A2-A7D4-DFE2E39C325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81D9AC-BEB7-4F80-ABFA-684FB6FD8CB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713348-0B6E-4FFE-B803-81FF6A8E2A5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A03F8C-0813-4BDA-A360-F61623501C0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84F6C9-7FA4-4E68-B3F3-896249C417D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ED5837-DEAE-4010-8BC5-07A42093BFC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079280" y="286560"/>
            <a:ext cx="10472400" cy="50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EE88DC-3C7F-4950-B7B1-87C42D93050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9A7AB5-68B2-4836-9001-5B5C1BE729D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48F0F-CD5D-48E1-9AC1-1A2187572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98CA3C-BA40-467F-A1FC-AC02362EBF3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3191F7-BBF7-41BF-9A84-464C1A3346F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685645-5A13-482D-9E56-65D633B0D9E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8AB03C-E6E8-45D0-BE30-7BA16030033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198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16084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0792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6198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816084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4294AB-E03B-4A74-93F6-FDA11E9BBB1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455991-9B4A-494E-A586-799CB6B31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47A6A0-5BB4-4CA5-8CC0-39E240835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61E772-504F-41BD-BF4F-B9EF1EABA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D35296-2881-44EC-B770-72BCB0757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9665BD-3135-44FD-A6A2-68B79D7A5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416FD-65E7-4828-A78D-FF042A611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079280" y="286560"/>
            <a:ext cx="10472400" cy="50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329F47-4F42-4F0B-A770-89AB5962D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C0372C-D959-4F26-A617-CD04936AA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88A6EC-5283-4EEF-88E7-9B8741D30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C0B75E-FC11-466A-B038-3D212741E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EB947D-DC9B-4D71-BA6F-4C190F56C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86CECA-1D25-49B8-BFF0-CA0A6602A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198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816084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0792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46198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816084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BEBD74-9FD8-4F1C-A1AB-3C70E1113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F1194-2574-4E51-B894-6E629791C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33F0E-3D52-4AFC-B7A9-D7708BBB3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079280" y="286560"/>
            <a:ext cx="10472400" cy="50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52D39-5DAE-4119-BFFF-02701FDD9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0B95E-0907-43BD-B3E5-353592EE5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8E333-D0B8-41D9-8C1C-5980B5010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B9BDA-986F-478D-BDC5-B9727C06C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 hidden="1"/>
          <p:cNvSpPr/>
          <p:nvPr/>
        </p:nvSpPr>
        <p:spPr>
          <a:xfrm>
            <a:off x="0" y="6400800"/>
            <a:ext cx="1219176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 hidden="1"/>
          <p:cNvSpPr/>
          <p:nvPr/>
        </p:nvSpPr>
        <p:spPr>
          <a:xfrm>
            <a:off x="0" y="6334200"/>
            <a:ext cx="12191760" cy="662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" name="Straight Connector 9"/>
          <p:cNvCxnSpPr/>
          <p:nvPr/>
        </p:nvCxnSpPr>
        <p:spPr>
          <a:xfrm>
            <a:off x="1071720" y="1396080"/>
            <a:ext cx="1047636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pic>
        <p:nvPicPr>
          <p:cNvPr id="3" name="Picture 2" descr=""/>
          <p:cNvPicPr/>
          <p:nvPr/>
        </p:nvPicPr>
        <p:blipFill>
          <a:blip r:embed="rId2"/>
          <a:srcRect l="61935" t="0" r="0" b="0"/>
          <a:stretch/>
        </p:blipFill>
        <p:spPr>
          <a:xfrm>
            <a:off x="132840" y="111960"/>
            <a:ext cx="720360" cy="721080"/>
          </a:xfrm>
          <a:prstGeom prst="rect">
            <a:avLst/>
          </a:prstGeom>
          <a:ln w="9525">
            <a:noFill/>
          </a:ln>
        </p:spPr>
      </p:pic>
      <p:sp>
        <p:nvSpPr>
          <p:cNvPr id="4" name="TextBox 3" hidden="1"/>
          <p:cNvSpPr/>
          <p:nvPr/>
        </p:nvSpPr>
        <p:spPr>
          <a:xfrm>
            <a:off x="132840" y="812880"/>
            <a:ext cx="7203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0" lang="fa-IR" sz="1100" spc="-1" strike="noStrike">
                <a:solidFill>
                  <a:srgbClr val="192884"/>
                </a:solidFill>
                <a:latin typeface="IranNastaliq"/>
                <a:cs typeface="IranNastaliq"/>
              </a:rPr>
              <a:t>گروه سلامت در بلایا و فوریت‌ها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3240" y="6400800"/>
            <a:ext cx="1218852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0" y="6334200"/>
            <a:ext cx="12188520" cy="6372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9080" bIns="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97280" y="758880"/>
            <a:ext cx="10058040" cy="356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rtl="1">
              <a:lnSpc>
                <a:spcPct val="85000"/>
              </a:lnSpc>
              <a:buNone/>
            </a:pPr>
            <a:r>
              <a:rPr b="1" lang="en-US" sz="8000" spc="-52" strike="noStrike">
                <a:solidFill>
                  <a:srgbClr val="262626"/>
                </a:solidFill>
                <a:latin typeface="Calibri Light"/>
              </a:rPr>
              <a:t>Click to edit Master title style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097280" y="6459840"/>
            <a:ext cx="24717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77040" y="6459840"/>
            <a:ext cx="415440" cy="39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57F2FE2-59F6-41F7-A826-018FE46CB4EF}" type="slidenum">
              <a:rPr b="0" lang="en-US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" name="Straight Connector 8"/>
          <p:cNvCxnSpPr/>
          <p:nvPr/>
        </p:nvCxnSpPr>
        <p:spPr>
          <a:xfrm>
            <a:off x="1207440" y="4343400"/>
            <a:ext cx="987588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sp>
        <p:nvSpPr>
          <p:cNvPr id="11" name="PlaceHolder 4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lnSpc>
                <a:spcPct val="15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864000" indent="-324000" algn="r" rtl="1">
              <a:lnSpc>
                <a:spcPct val="15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2" marL="1296000" indent="-288000" algn="r" rtl="1">
              <a:lnSpc>
                <a:spcPct val="15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3" marL="1728000" indent="-216000" algn="r" rtl="1">
              <a:lnSpc>
                <a:spcPct val="15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4" marL="2160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2592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3024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"/>
          <p:cNvSpPr/>
          <p:nvPr/>
        </p:nvSpPr>
        <p:spPr>
          <a:xfrm>
            <a:off x="0" y="6400800"/>
            <a:ext cx="1219176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0" y="6334200"/>
            <a:ext cx="12191760" cy="662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Straight Connector 9"/>
          <p:cNvCxnSpPr/>
          <p:nvPr/>
        </p:nvCxnSpPr>
        <p:spPr>
          <a:xfrm>
            <a:off x="1071720" y="1396080"/>
            <a:ext cx="1047636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pic>
        <p:nvPicPr>
          <p:cNvPr id="51" name="Picture 2" descr=""/>
          <p:cNvPicPr/>
          <p:nvPr/>
        </p:nvPicPr>
        <p:blipFill>
          <a:blip r:embed="rId2"/>
          <a:srcRect l="61935" t="0" r="0" b="0"/>
          <a:stretch/>
        </p:blipFill>
        <p:spPr>
          <a:xfrm>
            <a:off x="132840" y="111960"/>
            <a:ext cx="720360" cy="721080"/>
          </a:xfrm>
          <a:prstGeom prst="rect">
            <a:avLst/>
          </a:prstGeom>
          <a:ln w="9525">
            <a:noFill/>
          </a:ln>
        </p:spPr>
      </p:pic>
      <p:sp>
        <p:nvSpPr>
          <p:cNvPr id="52" name="TextBox 3"/>
          <p:cNvSpPr/>
          <p:nvPr/>
        </p:nvSpPr>
        <p:spPr>
          <a:xfrm>
            <a:off x="132840" y="812880"/>
            <a:ext cx="7203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0" lang="fa-IR" sz="1100" spc="-1" strike="noStrike">
                <a:solidFill>
                  <a:srgbClr val="192884"/>
                </a:solidFill>
                <a:latin typeface="IranNastaliq"/>
                <a:cs typeface="IranNastaliq"/>
              </a:rPr>
              <a:t>گروه سلامت در بلایا و فوریت‌ها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en-US" sz="4800" spc="-52" strike="noStrike">
                <a:solidFill>
                  <a:srgbClr val="b40000"/>
                </a:solidFill>
                <a:latin typeface="Calibri Light"/>
              </a:rPr>
              <a:t>Click to edit Master title styl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marL="91440" indent="-9144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Edit Master text styles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412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Second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2" marL="56700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Third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3" marL="74988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ourth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4" marL="93276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ifth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3"/>
          </p:nvPr>
        </p:nvSpPr>
        <p:spPr>
          <a:xfrm>
            <a:off x="50760" y="6446880"/>
            <a:ext cx="48225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1" lang="en-US" sz="1600" spc="-1" strike="noStrike" cap="all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600" spc="-1" strike="noStrike" cap="all">
                <a:solidFill>
                  <a:srgbClr val="ffffff"/>
                </a:solidFill>
                <a:latin typeface="Calibri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4"/>
          </p:nvPr>
        </p:nvSpPr>
        <p:spPr>
          <a:xfrm>
            <a:off x="11649240" y="6426720"/>
            <a:ext cx="415440" cy="39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DB27A2D-CEA1-453B-A7EA-E26BA9FA36B3}" type="slidenum">
              <a:rPr b="0" lang="en-US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 hidden="1"/>
          <p:cNvSpPr/>
          <p:nvPr/>
        </p:nvSpPr>
        <p:spPr>
          <a:xfrm>
            <a:off x="0" y="6400800"/>
            <a:ext cx="1219176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 hidden="1"/>
          <p:cNvSpPr/>
          <p:nvPr/>
        </p:nvSpPr>
        <p:spPr>
          <a:xfrm>
            <a:off x="0" y="6334200"/>
            <a:ext cx="12191760" cy="662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Straight Connector 9"/>
          <p:cNvCxnSpPr/>
          <p:nvPr/>
        </p:nvCxnSpPr>
        <p:spPr>
          <a:xfrm>
            <a:off x="1071720" y="1396080"/>
            <a:ext cx="1047636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pic>
        <p:nvPicPr>
          <p:cNvPr id="96" name="Picture 2" descr=""/>
          <p:cNvPicPr/>
          <p:nvPr/>
        </p:nvPicPr>
        <p:blipFill>
          <a:blip r:embed="rId2"/>
          <a:srcRect l="61935" t="0" r="0" b="0"/>
          <a:stretch/>
        </p:blipFill>
        <p:spPr>
          <a:xfrm>
            <a:off x="132840" y="111960"/>
            <a:ext cx="720360" cy="721080"/>
          </a:xfrm>
          <a:prstGeom prst="rect">
            <a:avLst/>
          </a:prstGeom>
          <a:ln w="9525">
            <a:noFill/>
          </a:ln>
        </p:spPr>
      </p:pic>
      <p:sp>
        <p:nvSpPr>
          <p:cNvPr id="97" name="TextBox 3" hidden="1"/>
          <p:cNvSpPr/>
          <p:nvPr/>
        </p:nvSpPr>
        <p:spPr>
          <a:xfrm>
            <a:off x="132840" y="812880"/>
            <a:ext cx="7203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0" lang="fa-IR" sz="1100" spc="-1" strike="noStrike">
                <a:solidFill>
                  <a:srgbClr val="192884"/>
                </a:solidFill>
                <a:latin typeface="IranNastaliq"/>
                <a:cs typeface="IranNastaliq"/>
              </a:rPr>
              <a:t>گروه سلامت در بلایا و فوریت‌ها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0" y="4952880"/>
            <a:ext cx="12188520" cy="190476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0" y="4915080"/>
            <a:ext cx="12188520" cy="6372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9080" bIns="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97280" y="5074920"/>
            <a:ext cx="10113120" cy="8226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0" lang="en-US" sz="3600" spc="-52" strike="noStrike">
                <a:solidFill>
                  <a:srgbClr val="ffffff"/>
                </a:solidFill>
                <a:latin typeface="Calibri Light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0" y="0"/>
            <a:ext cx="12191760" cy="49147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txBody>
          <a:bodyPr lIns="457200" rIns="90000" tIns="4572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icon to add picture</a:t>
            </a:r>
            <a:endParaRPr b="1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body"/>
          </p:nvPr>
        </p:nvSpPr>
        <p:spPr>
          <a:xfrm>
            <a:off x="1097280" y="5906880"/>
            <a:ext cx="10112760" cy="594000"/>
          </a:xfrm>
          <a:prstGeom prst="rect">
            <a:avLst/>
          </a:prstGeom>
          <a:noFill/>
          <a:ln w="0">
            <a:noFill/>
          </a:ln>
        </p:spPr>
        <p:txBody>
          <a:bodyPr tIns="0" bIns="0" anchor="t">
            <a:normAutofit/>
          </a:bodyPr>
          <a:p>
            <a:pPr indent="0" algn="r" rtl="1">
              <a:lnSpc>
                <a:spcPct val="150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Edit Master text styles</a:t>
            </a:r>
            <a:endParaRPr b="1" lang="en-US" sz="15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dt" idx="5"/>
          </p:nvPr>
        </p:nvSpPr>
        <p:spPr>
          <a:xfrm>
            <a:off x="1097280" y="6459840"/>
            <a:ext cx="24717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6"/>
          </p:nvPr>
        </p:nvSpPr>
        <p:spPr>
          <a:xfrm>
            <a:off x="3686040" y="6589440"/>
            <a:ext cx="4822560" cy="2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 cap="all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en-US" sz="1400" spc="-1" strike="noStrike" cap="all">
                <a:solidFill>
                  <a:srgbClr val="ffffff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7"/>
          </p:nvPr>
        </p:nvSpPr>
        <p:spPr>
          <a:xfrm>
            <a:off x="77040" y="6459840"/>
            <a:ext cx="415440" cy="39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9B2E8DB-3405-48F8-A004-C64A4E87B5BA}" type="slidenum">
              <a:rPr b="0" lang="en-US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diagramData" Target="../diagrams/data1.xml"/><Relationship Id="rId3" Type="http://schemas.openxmlformats.org/officeDocument/2006/relationships/diagramLayout" Target="../diagrams/layout1.xml"/><Relationship Id="rId4" Type="http://schemas.openxmlformats.org/officeDocument/2006/relationships/diagramQuickStyle" Target="../diagrams/quickStyle1.xml"/><Relationship Id="rId5" Type="http://schemas.openxmlformats.org/officeDocument/2006/relationships/diagramColors" Target="../diagrams/colors1.xml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71760" y="2165040"/>
            <a:ext cx="9143640" cy="202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130000"/>
              </a:lnSpc>
              <a:buNone/>
            </a:pPr>
            <a:r>
              <a:rPr b="1" lang="en-US" sz="4400" spc="-52" strike="noStrike">
                <a:solidFill>
                  <a:srgbClr val="1a2884"/>
                </a:solidFill>
                <a:latin typeface="Calibri Light"/>
              </a:rPr>
              <a:t> پیشگیری از آتش سوز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523880" y="4592520"/>
            <a:ext cx="9239400" cy="183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buNone/>
            </a:pPr>
            <a:endParaRPr b="1" lang="en-US" sz="2400" spc="199" strike="noStrike" cap="all">
              <a:solidFill>
                <a:srgbClr val="335b74"/>
              </a:solidFill>
              <a:latin typeface="Calibri Light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9331920" y="76320"/>
            <a:ext cx="2863440" cy="1259640"/>
          </a:xfrm>
          <a:prstGeom prst="rect">
            <a:avLst/>
          </a:prstGeom>
          <a:ln w="9525">
            <a:noFill/>
          </a:ln>
        </p:spPr>
      </p:pic>
      <p:sp>
        <p:nvSpPr>
          <p:cNvPr id="151" name="PlaceHolder 3"/>
          <p:cNvSpPr>
            <a:spLocks noGrp="1"/>
          </p:cNvSpPr>
          <p:nvPr>
            <p:ph type="ftr" idx="11"/>
          </p:nvPr>
        </p:nvSpPr>
        <p:spPr>
          <a:xfrm>
            <a:off x="3515040" y="3622680"/>
            <a:ext cx="4822560" cy="2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SG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en-SG" sz="1400" spc="-1" strike="noStrike">
                <a:solidFill>
                  <a:srgbClr val="ffffff"/>
                </a:solidFill>
                <a:latin typeface="Calibri"/>
              </a:rPr>
              <a:t>Dehghani.Am64@gmail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F3D8B-EE33-4205-B682-8A63E8D6BC8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یمنی در آشپزخانه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26360" y="1553400"/>
            <a:ext cx="10830960" cy="4823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264960"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رفتارهاي ايمن در برابر سوختگي با مايعات: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7221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براي جلوگيري از سقوط قابلمه، كتري، قوري و سماور آنها را در سطح جلو كابينت و يا اجاق گاز قرار نده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7221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سيم كتري و سماور برقي بايد كوتاه باشد و به حالت آويزان نباش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7221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به محض جوش آمدن آب، سيم را از پريزبرق و كتري خارج كن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7221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تاوه را لبريز از روغن يا كره داغ نكن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F504BE-7D99-432F-962A-C7AD9099A05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یمنی در آشپزخانه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26360" y="1553400"/>
            <a:ext cx="10830960" cy="4823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5000"/>
          </a:bodyPr>
          <a:p>
            <a:pPr marL="685800" indent="-434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در صورت آتش گرفتن ظروف حاوي روغن مثل ماهي تابه، درپوش آن را بگذاريد و آب روي آن نپاش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85800" indent="-434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سماور را بر روي سطح صاف و هموار قرار ده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85800" indent="-434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سماور بايد از نظر تكنيكي سالم باشد تا خطري ايجاد نكن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85800" indent="-434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ز قرار دادن کبریت و مواد آتش زا و اسپری ها در کنار گاز خودداری کنید. 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85800" indent="-434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یک کپسول اطفا حریق کوچک در اشپزخانه داشته باشید. 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2D993A-C547-4BE1-89D3-73D4B1C6477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39320" y="5508000"/>
            <a:ext cx="10113120" cy="8226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0" lang="fa-IR" sz="3600" spc="-52" strike="noStrike">
                <a:solidFill>
                  <a:srgbClr val="ffffff"/>
                </a:solidFill>
                <a:latin typeface="Calibri Light"/>
                <a:cs typeface="B Titr"/>
              </a:rPr>
              <a:t>ایمنی در اتاق خوا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pic>
        <p:nvPicPr>
          <p:cNvPr id="186" name="Picture Placeholder 3" descr=""/>
          <p:cNvPicPr/>
          <p:nvPr/>
        </p:nvPicPr>
        <p:blipFill>
          <a:blip r:embed="rId2"/>
          <a:srcRect l="0" t="29837" r="0" b="29837"/>
          <a:stretch/>
        </p:blipFill>
        <p:spPr>
          <a:xfrm>
            <a:off x="0" y="0"/>
            <a:ext cx="12191760" cy="491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759C27-A1BC-4C24-A5FE-B0273C12672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یمنی در اتاق خواب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26360" y="1553400"/>
            <a:ext cx="10830960" cy="4823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85000"/>
          </a:bodyPr>
          <a:p>
            <a:pPr marL="663120" indent="-4197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 هيچگاه در رختخواب سيگار نكش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63120" indent="-4197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در اتاق خواب آشپزی نکنی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63120" indent="-4197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لحاف و تشك نبايد به منبع حرارت  در زير كرسي نزديك باش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63120" indent="-4197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ز نصب شومينه، بخاري ديواري و چراغ روشنايي در اتاق خواب خودداري نماي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63120" indent="-4197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منقل كرسي نبايد پر شود و زير آن صفحه عايق يا نسوز قرار گير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63120" indent="-4197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براي گرم كردن كرسي از چراغ خوراك پزي استفاده نكن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63120" indent="-4197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ز بخاری های ایمن استفاد شود. 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695218-346C-4EDC-B564-A2608FE5F2A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39320" y="5508000"/>
            <a:ext cx="10113120" cy="8226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0" lang="fa-IR" sz="3600" spc="-52" strike="noStrike">
                <a:solidFill>
                  <a:srgbClr val="ffffff"/>
                </a:solidFill>
                <a:latin typeface="Calibri Light"/>
                <a:cs typeface="B Titr"/>
              </a:rPr>
              <a:t>ایمنی در سرویس بهداشت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pic>
        <p:nvPicPr>
          <p:cNvPr id="192" name="Picture Placeholder 5" descr=""/>
          <p:cNvPicPr/>
          <p:nvPr/>
        </p:nvPicPr>
        <p:blipFill>
          <a:blip r:embed="rId2"/>
          <a:srcRect l="0" t="14152" r="0" b="14152"/>
          <a:stretch/>
        </p:blipFill>
        <p:spPr>
          <a:xfrm>
            <a:off x="0" y="0"/>
            <a:ext cx="12191760" cy="491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1D635E-C821-42D2-88A6-E2EEFDE33B0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یمنی در سرویس بهداشتی و حمام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26360" y="2106000"/>
            <a:ext cx="10830960" cy="4271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7221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جهت لكه گيري لباسهاي پشمي و نايلوني از مواد قابل اشتعال مثل بنزين و تينر به خصوص در فضاهای بسته مثل حمام استفاده نکن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7221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ز نگهداری مواد اشتعال زا در حمام و سرویس بهداشتی خودداری کنید. 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790E9B-E9E6-465A-8CEF-5B66090552B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39320" y="5508000"/>
            <a:ext cx="10113120" cy="8226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0" lang="fa-IR" sz="3600" spc="-52" strike="noStrike">
                <a:solidFill>
                  <a:srgbClr val="ffffff"/>
                </a:solidFill>
                <a:latin typeface="Calibri Light"/>
                <a:cs typeface="B Titr"/>
              </a:rPr>
              <a:t>ایمنی در مدارس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pic>
        <p:nvPicPr>
          <p:cNvPr id="198" name="Picture Placeholder 3" descr=""/>
          <p:cNvPicPr/>
          <p:nvPr/>
        </p:nvPicPr>
        <p:blipFill>
          <a:blip r:embed="rId2"/>
          <a:srcRect l="0" t="29834" r="0" b="29834"/>
          <a:stretch/>
        </p:blipFill>
        <p:spPr>
          <a:xfrm>
            <a:off x="0" y="0"/>
            <a:ext cx="12191760" cy="491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AC925E-92CB-41A9-AD45-2406CCC5C6F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یمنی در مدارس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05200" y="1553400"/>
            <a:ext cx="11652120" cy="4747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70000"/>
          </a:bodyPr>
          <a:p>
            <a:pPr marL="594720" indent="-376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در انباري يا هر محل ديگر، زباله هاي آتش گير مثل چوب، خاك اره، ذغال، كاغذ و خار و خاشاك انباشته نكن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594720" indent="-376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مايعات قابل اشتعال مثل چسب موكت، نفت، گازوئيل و ... را در خانه و مدرسه (به ويژه درزيرزمين و پاركينگ) نگه ندار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594720" indent="-376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ستفاده و كاربردهاي ديگر از موتورخانه(سيستم حرارت مركزي شوفاژ) ممنوع مي‌باشد،  به عنوان مثال: انبار و نگهداري كاغذ و اقلامي كه آتش زا هستن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594720" indent="-376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جمع آوري و انبار نمودن روغن، گريس، كهنه هاي روغني، نخاله هاي آلوده به روغن و مواد نفتي و نظاير آن بر روي وسايل و تجهيزات ساختماني يا در مجاورت آنها مجاز نيست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594720" indent="-376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ar-SA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نواع وسايل گرمازا نظير بخاري برقي يا گازي، اجاق گاز، فر، سماور، پيك نيك و ... بايد حفاظ مناسب داشته باشن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3E20E5-1DAB-420E-891F-099808C2219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یمنی در مدارس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2320" y="1553400"/>
            <a:ext cx="11475000" cy="4823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84000"/>
          </a:bodyPr>
          <a:p>
            <a:pPr marL="655560" indent="-414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ar-SA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ز بخاري و اجاق هايي استفاده كنيد كه سطح خارجي آنها با لايه عايق يا حفاظ ايمني پوشيده شده باش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55560" indent="-414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تانكر نفت، در محوطه حياط و دور از مواد قابل اشتعال مثل چوب، كاه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   و ... بوده و درب آن كاملا بسته نباشد تا گازهاي توليد شده در اثر تابش خورشيد از آن خارج شو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55560" indent="-414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كليه وسايل گازسوز بايد با استانداردهاي ملي مربوط به آن دستگاه مطابقت داشته و توسط افرادي كه داراي پروانه صلاحيت باشند، نصب و راه اندازي شو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55560" indent="-414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ز تبديل وسايلي كه با سوخت هاي ديگر كار مي كنند به وسايل گاز سوز خودداري نماييد. 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216D8F-FE0A-4AAC-B206-6428F9363B5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یمنی در مدارس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26360" y="1553400"/>
            <a:ext cx="10830960" cy="4823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3000"/>
          </a:bodyPr>
          <a:p>
            <a:pPr marL="671400" indent="-425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زير بخاريهايي كه با سوخت جامد كار مي كنند صفحه اي نسوز يا عايق قرار دهيد. 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71400" indent="-425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ز قرار دادن وسايل گرمايي و بخاري در مسير رفت و آمد خودداري نماي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71400" indent="-425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مخازن نگهداری نفت و گازوئيل بايد دوراز دسترس کودکان قرار داده شود و محتوای داخل آن برای کودکان قابل دستيابی نباشد 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71400" indent="-425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ar-SA" sz="2800" spc="-1" strike="noStrike">
                <a:solidFill>
                  <a:srgbClr val="404040"/>
                </a:solidFill>
                <a:latin typeface="Calibri"/>
                <a:cs typeface="B Nazanin"/>
              </a:rPr>
              <a:t>پيچ هاي روشن و خاموش كردن اجاق گاز بايد دور از دسترس كودكان قرار گيرد و اگر قفل شود بهتر است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46B857-2149-433C-B4C3-13AD31D456F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1" lang="en-US" sz="4800" spc="-52" strike="noStrike">
              <a:solidFill>
                <a:srgbClr val="b4000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55" name="Picture 2" descr="Image result for بسم الله الرحمن الرحيم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3"/>
          <p:cNvSpPr/>
          <p:nvPr/>
        </p:nvSpPr>
        <p:spPr>
          <a:xfrm>
            <a:off x="0" y="6267240"/>
            <a:ext cx="1386720" cy="59040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Z.Ghomi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2824F0-0CDD-4DF5-9070-EDD4B8294F6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یمنی در مدارس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26360" y="2216880"/>
            <a:ext cx="10830960" cy="41601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7221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گر لوله كشي گاز از روي پشت بام عبور مي كند بايد در معرض برخورد با اجسام خارجي و مسير عبور و مرور نباش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7221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ز زنگ زدگي لوله كشي گاز در اثر تماس طولاني با آب باران و برف جلوگيري به عمل آ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7E2643-C606-4677-B01A-571DD601E72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با تشکر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Content Placeholder 7" descr=""/>
          <p:cNvPicPr/>
          <p:nvPr/>
        </p:nvPicPr>
        <p:blipFill>
          <a:blip r:embed="rId1"/>
          <a:stretch/>
        </p:blipFill>
        <p:spPr>
          <a:xfrm>
            <a:off x="1947960" y="1707480"/>
            <a:ext cx="8629200" cy="43146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" descr=""/>
          <p:cNvPicPr/>
          <p:nvPr/>
        </p:nvPicPr>
        <p:blipFill>
          <a:blip r:embed="rId2"/>
          <a:stretch/>
        </p:blipFill>
        <p:spPr>
          <a:xfrm>
            <a:off x="11031480" y="123840"/>
            <a:ext cx="1149840" cy="1149840"/>
          </a:xfrm>
          <a:prstGeom prst="rect">
            <a:avLst/>
          </a:prstGeom>
          <a:ln w="9525">
            <a:noFill/>
          </a:ln>
        </p:spPr>
      </p:pic>
      <p:graphicFrame>
        <p:nvGraphicFramePr>
          <p:cNvPr id="214" name="Object 3"/>
          <p:cNvGraphicFramePr/>
          <p:nvPr/>
        </p:nvGraphicFramePr>
        <p:xfrm>
          <a:off x="92160" y="92160"/>
          <a:ext cx="553680" cy="371160"/>
        </p:xfrm>
        <a:graphic>
          <a:graphicData uri="http://schemas.openxmlformats.org/presentationml/2006/ole">
            <p:oleObj progId="Package" r:id="rId3" spid="">
              <p:embed/>
              <p:pic>
                <p:nvPicPr>
                  <p:cNvPr id="21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160" y="92160"/>
                    <a:ext cx="553680" cy="37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3F7991-C03B-42DA-BA31-0435B7ABA6D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نواع مواد آتش زا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562681033"/>
              </p:ext>
            </p:extLst>
          </p:nvPr>
        </p:nvGraphicFramePr>
        <p:xfrm>
          <a:off x="1079280" y="1536480"/>
          <a:ext cx="10472400" cy="47930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2" r:lo="rId3" r:qs="rId4" r:cs="rId5"/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A77478-D3C4-47F9-B9DE-9A64ACA74D1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39320" y="5508000"/>
            <a:ext cx="10113120" cy="8226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0" lang="fa-IR" sz="3600" spc="-52" strike="noStrike">
                <a:solidFill>
                  <a:srgbClr val="ffffff"/>
                </a:solidFill>
                <a:latin typeface="Calibri Light"/>
                <a:cs typeface="B Titr"/>
              </a:rPr>
              <a:t>ایمنی در اتاق نشیمن و پذیرایی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Placeholder 8" descr=""/>
          <p:cNvPicPr/>
          <p:nvPr/>
        </p:nvPicPr>
        <p:blipFill>
          <a:blip r:embed="rId1"/>
          <a:srcRect l="0" t="26480" r="0" b="26480"/>
          <a:stretch/>
        </p:blipFill>
        <p:spPr>
          <a:xfrm>
            <a:off x="0" y="0"/>
            <a:ext cx="12191760" cy="49147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" descr=""/>
          <p:cNvPicPr/>
          <p:nvPr/>
        </p:nvPicPr>
        <p:blipFill>
          <a:blip r:embed="rId2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689A17-5CC2-46E6-8B04-919E971BE97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یمنی در اتاق نشیمن و پذیرایی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300560" y="1553400"/>
            <a:ext cx="7556760" cy="4823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7000"/>
          </a:bodyPr>
          <a:p>
            <a:pPr marL="700200" indent="-443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ز قرار دادن بخاری، والور و ساير وسائل آتش زا در وسط اتاق و در مسير تردد خودداری كن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700200" indent="-443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چاي و ساير نوشيدني هاي داغ و هر نوع ظرف حاوي مايعات داغ را در وسط اتاق و محل رفت و آمد نگذار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700200" indent="-443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ظرف غذا و كتري را روي بخاري و ديگر وسايل گرمايي در داخل اطاق قرار نده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pic>
        <p:nvPicPr>
          <p:cNvPr id="165" name="Picture 3" descr=""/>
          <p:cNvPicPr/>
          <p:nvPr/>
        </p:nvPicPr>
        <p:blipFill>
          <a:blip r:embed="rId2"/>
          <a:stretch/>
        </p:blipFill>
        <p:spPr>
          <a:xfrm>
            <a:off x="892440" y="2725920"/>
            <a:ext cx="2761200" cy="2255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EDBCA9-A8B6-417F-8DD7-0C4681C8B5B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یمنی در اتاق نشیمن و پذیرایی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66280" y="1553400"/>
            <a:ext cx="1129104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72000"/>
          </a:bodyPr>
          <a:p>
            <a:pPr marL="611640" indent="-3870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شومينه را تميز نگه داريد و براي آن يك شبكه محافظ فلزي تهيه كن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11640" indent="-3870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به منظور جلوگيري از خطر نشت گاز، شومينه بايستي مجهز به ترموكوپل و شير جداگانه قطع و وصل باش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11640" indent="-3870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نصب شومينه در اتاق هاي كوچك مي تواند خطرساز باشد. در اين گونه مواقع ترجيحاً از بخاري استفاده شو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11640" indent="-3870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شير شومينه بايد خارج از آن قرار داده شود تا در هنگام آتش سوزي احتمالي، بدون خطر بتوان گاز را قطع نمو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11640" indent="-3870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شير شومينه را در پايان فصل زمستان بسته و خروجي آن را با درپوش مسدود نماييد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0CC9A7-9FAE-4986-91F9-6B6DAAA6989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39320" y="5508000"/>
            <a:ext cx="10113120" cy="8226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0" lang="fa-IR" sz="3600" spc="-52" strike="noStrike">
                <a:solidFill>
                  <a:srgbClr val="ffffff"/>
                </a:solidFill>
                <a:latin typeface="Calibri Light"/>
                <a:cs typeface="B Titr"/>
              </a:rPr>
              <a:t>ایمنی در آشپزخانه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pic>
        <p:nvPicPr>
          <p:cNvPr id="171" name="Picture Placeholder 5" descr=""/>
          <p:cNvPicPr/>
          <p:nvPr/>
        </p:nvPicPr>
        <p:blipFill>
          <a:blip r:embed="rId2"/>
          <a:srcRect l="0" t="16883" r="0" b="16883"/>
          <a:stretch/>
        </p:blipFill>
        <p:spPr>
          <a:xfrm>
            <a:off x="0" y="0"/>
            <a:ext cx="12191760" cy="491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92A56E-1542-49D8-ABC2-78E8E804875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یمنی در آشپزخانه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71960" y="1553400"/>
            <a:ext cx="11385360" cy="4823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264960"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رفتارهاي ايمن در برابر مواد آتش زاي جامد: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7221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ز پوشيدن لباس هاي قابل اشتعال و يا گشاد و آستين بلند در هنگام كار با اجاق گاز بپرهيز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7221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در هنگام آشپزي با فاصله مناسب از اجاق گاز بايست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7221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مراقب باشيد مو، آستين يا ساير قسمتهاي لباستان در تماس با شعله اجاق گاز قرار نگير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40DCDB-DA19-45BB-B5DD-D031C03D48E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یمنی در آشپزخانه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553400"/>
            <a:ext cx="10942920" cy="4823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264960"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رفتارهاي ايمن در برابر اشياء داغ: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7221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براي برداشتن در غذا از دستگيره مناسب(غير پلاستيك) استفاده كن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7221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هرگز از لبه آستين بجاي دستگيره براي برداشتن ظروف داغ استفاده ننماي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BD95D1-2D2B-4FB8-AC95-1838DCCC4D0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Retrospect">
  <a:themeElements>
    <a:clrScheme name="Custom 1">
      <a:dk1>
        <a:srgbClr val="000000"/>
      </a:dk1>
      <a:lt1>
        <a:srgbClr val="ffffff"/>
      </a:lt1>
      <a:dk2>
        <a:srgbClr val="335b74"/>
      </a:dk2>
      <a:lt2>
        <a:srgbClr val="ffffff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Retrospect">
  <a:themeElements>
    <a:clrScheme name="Custom 1">
      <a:dk1>
        <a:srgbClr val="000000"/>
      </a:dk1>
      <a:lt1>
        <a:srgbClr val="ffffff"/>
      </a:lt1>
      <a:dk2>
        <a:srgbClr val="335b74"/>
      </a:dk2>
      <a:lt2>
        <a:srgbClr val="ffffff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Retrospect">
  <a:themeElements>
    <a:clrScheme name="Custom 1">
      <a:dk1>
        <a:srgbClr val="000000"/>
      </a:dk1>
      <a:lt1>
        <a:srgbClr val="ffffff"/>
      </a:lt1>
      <a:dk2>
        <a:srgbClr val="335b74"/>
      </a:dk2>
      <a:lt2>
        <a:srgbClr val="ffffff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335b74"/>
      </a:dk2>
      <a:lt2>
        <a:srgbClr val="ffffff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Retrospect</Template>
  <TotalTime>10933</TotalTime>
  <Application>LibreOffice/7.4.7.2$Linux_X86_64 LibreOffice_project/40$Build-2</Application>
  <AppVersion>15.0000</AppVersion>
  <Words>1030</Words>
  <Paragraphs>10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03T12:17:57Z</dcterms:created>
  <dc:creator>Z Gh</dc:creator>
  <dc:description/>
  <dc:language>en-US</dc:language>
  <cp:lastModifiedBy>mahnaz khoshmanzar shahroudi</cp:lastModifiedBy>
  <dcterms:modified xsi:type="dcterms:W3CDTF">2022-01-29T07:54:49Z</dcterms:modified>
  <cp:revision>1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Widescreen</vt:lpwstr>
  </property>
  <property fmtid="{D5CDD505-2E9C-101B-9397-08002B2CF9AE}" pid="4" name="Slides">
    <vt:r8>21</vt:r8>
  </property>
</Properties>
</file>